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30.png" ContentType="image/png"/>
  <Override PartName="/ppt/media/image41.png" ContentType="image/png"/>
  <Override PartName="/ppt/media/image43.png" ContentType="image/png"/>
  <Override PartName="/ppt/media/image44.wmf" ContentType="image/x-wmf"/>
  <Override PartName="/ppt/media/image10.png" ContentType="image/png"/>
  <Override PartName="/ppt/media/image47.png" ContentType="image/png"/>
  <Override PartName="/ppt/media/image35.png" ContentType="image/png"/>
  <Override PartName="/ppt/media/image50.png" ContentType="image/png"/>
  <Override PartName="/ppt/media/image5.jpeg" ContentType="image/jpeg"/>
  <Override PartName="/ppt/media/image45.jpeg" ContentType="image/jpeg"/>
  <Override PartName="/ppt/media/image46.wmf" ContentType="image/x-wmf"/>
  <Override PartName="/ppt/media/image39.png" ContentType="image/png"/>
  <Override PartName="/ppt/media/image42.wmf" ContentType="image/x-wmf"/>
  <Override PartName="/ppt/media/image9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86600" cy="10223640"/>
          </a:xfrm>
          <a:custGeom>
            <a:avLst/>
            <a:gdLst>
              <a:gd name="textAreaLeft" fmla="*/ 360 w 7086600"/>
              <a:gd name="textAreaRight" fmla="*/ 7086240 w 7086600"/>
              <a:gd name="textAreaTop" fmla="*/ 360 h 10223640"/>
              <a:gd name="textAreaBottom" fmla="*/ 10223280 h 10223640"/>
            </a:gdLst>
            <a:ahLst/>
            <a:rect l="textAreaLeft" t="textAreaTop" r="textAreaRight" b="textAreaBottom"/>
            <a:pathLst>
              <a:path w="21600" h="31161">
                <a:moveTo>
                  <a:pt x="4" y="0"/>
                </a:moveTo>
                <a:arcTo wR="4" hR="4" stAng="16200000" swAng="-5400000"/>
                <a:lnTo>
                  <a:pt x="0" y="31157"/>
                </a:lnTo>
                <a:arcTo wR="4" hR="4" stAng="10800000" swAng="-5400000"/>
                <a:lnTo>
                  <a:pt x="21596" y="3116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086600" cy="10223640"/>
          </a:xfrm>
          <a:custGeom>
            <a:avLst/>
            <a:gdLst>
              <a:gd name="textAreaLeft" fmla="*/ 360 w 7086600"/>
              <a:gd name="textAreaRight" fmla="*/ 7086240 w 7086600"/>
              <a:gd name="textAreaTop" fmla="*/ 360 h 10223640"/>
              <a:gd name="textAreaBottom" fmla="*/ 10223280 h 10223640"/>
            </a:gdLst>
            <a:ahLst/>
            <a:rect l="textAreaLeft" t="textAreaTop" r="textAreaRight" b="textAreaBottom"/>
            <a:pathLst>
              <a:path w="21600" h="31161">
                <a:moveTo>
                  <a:pt x="4" y="0"/>
                </a:moveTo>
                <a:arcTo wR="4" hR="4" stAng="16200000" swAng="-5400000"/>
                <a:lnTo>
                  <a:pt x="0" y="31157"/>
                </a:lnTo>
                <a:arcTo wR="4" hR="4" stAng="10800000" swAng="-5400000"/>
                <a:lnTo>
                  <a:pt x="21596" y="3116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086600" cy="10223640"/>
          </a:xfrm>
          <a:custGeom>
            <a:avLst/>
            <a:gdLst>
              <a:gd name="textAreaLeft" fmla="*/ 360 w 7086600"/>
              <a:gd name="textAreaRight" fmla="*/ 7086240 w 7086600"/>
              <a:gd name="textAreaTop" fmla="*/ 360 h 10223640"/>
              <a:gd name="textAreaBottom" fmla="*/ 10223280 h 10223640"/>
            </a:gdLst>
            <a:ahLst/>
            <a:rect l="textAreaLeft" t="textAreaTop" r="textAreaRight" b="textAreaBottom"/>
            <a:pathLst>
              <a:path w="21600" h="31161">
                <a:moveTo>
                  <a:pt x="4" y="0"/>
                </a:moveTo>
                <a:arcTo wR="4" hR="4" stAng="16200000" swAng="-5400000"/>
                <a:lnTo>
                  <a:pt x="0" y="31157"/>
                </a:lnTo>
                <a:arcTo wR="4" hR="4" stAng="10800000" swAng="-5400000"/>
                <a:lnTo>
                  <a:pt x="21596" y="3116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65400" cy="506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77720"/>
                <a:tab algn="l" pos="958680"/>
                <a:tab algn="l" pos="1440000"/>
                <a:tab algn="l" pos="1917720"/>
                <a:tab algn="l" pos="2400480"/>
                <a:tab algn="l" pos="2879640"/>
                <a:tab algn="l" pos="3360600"/>
                <a:tab algn="l" pos="3840120"/>
                <a:tab algn="l" pos="4321080"/>
                <a:tab algn="l" pos="4799160"/>
                <a:tab algn="l" pos="5280120"/>
                <a:tab algn="l" pos="5761080"/>
                <a:tab algn="l" pos="6242040"/>
                <a:tab algn="l" pos="6721560"/>
                <a:tab algn="l" pos="7202520"/>
                <a:tab algn="l" pos="7680240"/>
                <a:tab algn="l" pos="8161200"/>
                <a:tab algn="l" pos="8640720"/>
                <a:tab algn="l" pos="9121680"/>
                <a:tab algn="l" pos="9602640"/>
                <a:tab algn="l" pos="9620280"/>
                <a:tab algn="l" pos="10101240"/>
                <a:tab algn="l" pos="105822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16160" y="-360"/>
            <a:ext cx="3065400" cy="506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77720"/>
                <a:tab algn="l" pos="958680"/>
                <a:tab algn="l" pos="1440000"/>
                <a:tab algn="l" pos="1917720"/>
                <a:tab algn="l" pos="2400480"/>
                <a:tab algn="l" pos="2879640"/>
                <a:tab algn="l" pos="3360600"/>
                <a:tab algn="l" pos="3840120"/>
                <a:tab algn="l" pos="4321080"/>
                <a:tab algn="l" pos="4799160"/>
                <a:tab algn="l" pos="5280120"/>
                <a:tab algn="l" pos="5761080"/>
                <a:tab algn="l" pos="6242040"/>
                <a:tab algn="l" pos="6721560"/>
                <a:tab algn="l" pos="7202520"/>
                <a:tab algn="l" pos="7680240"/>
                <a:tab algn="l" pos="8161200"/>
                <a:tab algn="l" pos="8640720"/>
                <a:tab algn="l" pos="9121680"/>
                <a:tab algn="l" pos="9602640"/>
                <a:tab algn="l" pos="9620280"/>
                <a:tab algn="l" pos="10101240"/>
                <a:tab algn="l" pos="105822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77720"/>
                <a:tab algn="l" pos="958680"/>
                <a:tab algn="l" pos="1440000"/>
                <a:tab algn="l" pos="1917720"/>
                <a:tab algn="l" pos="2400480"/>
                <a:tab algn="l" pos="2879640"/>
                <a:tab algn="l" pos="3360600"/>
                <a:tab algn="l" pos="3840120"/>
                <a:tab algn="l" pos="4321080"/>
                <a:tab algn="l" pos="4799160"/>
                <a:tab algn="l" pos="5280120"/>
                <a:tab algn="l" pos="5761080"/>
                <a:tab algn="l" pos="6242040"/>
                <a:tab algn="l" pos="6721560"/>
                <a:tab algn="l" pos="7202520"/>
                <a:tab algn="l" pos="7680240"/>
                <a:tab algn="l" pos="8161200"/>
                <a:tab algn="l" pos="8640720"/>
                <a:tab algn="l" pos="9121680"/>
                <a:tab algn="l" pos="9602640"/>
                <a:tab algn="l" pos="9620280"/>
                <a:tab algn="l" pos="10101240"/>
                <a:tab algn="l" pos="105822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87120" y="767880"/>
            <a:ext cx="5110200" cy="383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120" rIns="96120" tIns="50040" bIns="5004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44640" y="4857840"/>
            <a:ext cx="5192640" cy="4597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709200"/>
            <a:ext cx="306540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77720"/>
                <a:tab algn="l" pos="958680"/>
                <a:tab algn="l" pos="1440000"/>
                <a:tab algn="l" pos="1917720"/>
                <a:tab algn="l" pos="2400480"/>
                <a:tab algn="l" pos="2879640"/>
                <a:tab algn="l" pos="3360600"/>
                <a:tab algn="l" pos="3840120"/>
                <a:tab algn="l" pos="4321080"/>
                <a:tab algn="l" pos="4799160"/>
                <a:tab algn="l" pos="5280120"/>
                <a:tab algn="l" pos="5761080"/>
                <a:tab algn="l" pos="6242040"/>
                <a:tab algn="l" pos="6721560"/>
                <a:tab algn="l" pos="7202520"/>
                <a:tab algn="l" pos="7680240"/>
                <a:tab algn="l" pos="8161200"/>
                <a:tab algn="l" pos="8640720"/>
                <a:tab algn="l" pos="9121680"/>
                <a:tab algn="l" pos="9602640"/>
                <a:tab algn="l" pos="9620280"/>
                <a:tab algn="l" pos="10101240"/>
                <a:tab algn="l" pos="105822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77720"/>
                <a:tab algn="l" pos="958680"/>
                <a:tab algn="l" pos="1440000"/>
                <a:tab algn="l" pos="1917720"/>
                <a:tab algn="l" pos="2400480"/>
                <a:tab algn="l" pos="2879640"/>
                <a:tab algn="l" pos="3360600"/>
                <a:tab algn="l" pos="3840120"/>
                <a:tab algn="l" pos="4321080"/>
                <a:tab algn="l" pos="4799160"/>
                <a:tab algn="l" pos="5280120"/>
                <a:tab algn="l" pos="5761080"/>
                <a:tab algn="l" pos="6242040"/>
                <a:tab algn="l" pos="6721560"/>
                <a:tab algn="l" pos="7202520"/>
                <a:tab algn="l" pos="7680240"/>
                <a:tab algn="l" pos="8161200"/>
                <a:tab algn="l" pos="8640720"/>
                <a:tab algn="l" pos="9121680"/>
                <a:tab algn="l" pos="9602640"/>
                <a:tab algn="l" pos="9620280"/>
                <a:tab algn="l" pos="10101240"/>
                <a:tab algn="l" pos="105822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16160" y="9709200"/>
            <a:ext cx="306540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77720"/>
                <a:tab algn="l" pos="958680"/>
                <a:tab algn="l" pos="1440000"/>
                <a:tab algn="l" pos="1917720"/>
                <a:tab algn="l" pos="2400480"/>
                <a:tab algn="l" pos="2879640"/>
                <a:tab algn="l" pos="3360600"/>
                <a:tab algn="l" pos="3840120"/>
                <a:tab algn="l" pos="4321080"/>
                <a:tab algn="l" pos="4799160"/>
                <a:tab algn="l" pos="5280120"/>
                <a:tab algn="l" pos="5761080"/>
                <a:tab algn="l" pos="6242040"/>
                <a:tab algn="l" pos="6721560"/>
                <a:tab algn="l" pos="7202520"/>
                <a:tab algn="l" pos="7680240"/>
                <a:tab algn="l" pos="8161200"/>
                <a:tab algn="l" pos="8640720"/>
                <a:tab algn="l" pos="9121680"/>
                <a:tab algn="l" pos="9602640"/>
                <a:tab algn="l" pos="9620280"/>
                <a:tab algn="l" pos="10101240"/>
                <a:tab algn="l" pos="105822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77720"/>
                <a:tab algn="l" pos="958680"/>
                <a:tab algn="l" pos="1440000"/>
                <a:tab algn="l" pos="1917720"/>
                <a:tab algn="l" pos="2400480"/>
                <a:tab algn="l" pos="2879640"/>
                <a:tab algn="l" pos="3360600"/>
                <a:tab algn="l" pos="3840120"/>
                <a:tab algn="l" pos="4321080"/>
                <a:tab algn="l" pos="4799160"/>
                <a:tab algn="l" pos="5280120"/>
                <a:tab algn="l" pos="5761080"/>
                <a:tab algn="l" pos="6242040"/>
                <a:tab algn="l" pos="6721560"/>
                <a:tab algn="l" pos="7202520"/>
                <a:tab algn="l" pos="7680240"/>
                <a:tab algn="l" pos="8161200"/>
                <a:tab algn="l" pos="8640720"/>
                <a:tab algn="l" pos="9121680"/>
                <a:tab algn="l" pos="9602640"/>
                <a:tab algn="l" pos="9620280"/>
                <a:tab algn="l" pos="10101240"/>
                <a:tab algn="l" pos="10582200"/>
              </a:tabLst>
            </a:pPr>
            <a:fld id="{C1EFFFDC-B843-4155-A224-07F955154D8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04920" y="768240"/>
            <a:ext cx="4676760" cy="383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44640" y="4857480"/>
            <a:ext cx="51940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479-A066-42D9-BC27-4489E90D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778040"/>
            <a:ext cx="77677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38200"/>
            <a:ext cx="77677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4BE-DA2B-4044-ADEC-D8492857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778040"/>
            <a:ext cx="3790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89640" y="1778040"/>
            <a:ext cx="3790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38200"/>
            <a:ext cx="3790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89640" y="4138200"/>
            <a:ext cx="3790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ACA-D8E0-43EB-947A-48B6E975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778040"/>
            <a:ext cx="2500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778040"/>
            <a:ext cx="2500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1880" y="1778040"/>
            <a:ext cx="2500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38200"/>
            <a:ext cx="2500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4138200"/>
            <a:ext cx="2500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1880" y="4138200"/>
            <a:ext cx="2500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D80-F789-4A4B-A4C0-F415F049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778040"/>
            <a:ext cx="7767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94D-B5E2-4EBD-92FB-75F17E26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778040"/>
            <a:ext cx="77677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C2C-BE58-49AC-8EF1-615C808C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778040"/>
            <a:ext cx="3790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89640" y="1778040"/>
            <a:ext cx="3790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E8A-C1A0-4298-9BD5-BDE67D45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0CC-9553-4305-9759-0B45D0A1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981000"/>
            <a:ext cx="776772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798-90E4-4091-9B95-F237D66B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778040"/>
            <a:ext cx="3790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89640" y="1778040"/>
            <a:ext cx="3790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38200"/>
            <a:ext cx="3790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CFC-D700-4943-845E-ECB3EFFE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778040"/>
            <a:ext cx="3790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9640" y="1778040"/>
            <a:ext cx="3790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89640" y="4138200"/>
            <a:ext cx="3790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BB7-C276-4B4F-A697-3908B3AE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778040"/>
            <a:ext cx="3790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9640" y="1778040"/>
            <a:ext cx="3790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38200"/>
            <a:ext cx="77677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B36-A2D3-45AD-AF90-8F890558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778040"/>
            <a:ext cx="77677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38360" indent="-28116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lnSpc>
                <a:spcPct val="106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lnSpc>
                <a:spcPct val="106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000" y="6477120"/>
            <a:ext cx="377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8200" y="3429000"/>
            <a:ext cx="6811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07DF9-DB23-4C13-B1D1-A202ABDC09CE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image" Target="../media/image42.wmf"/><Relationship Id="rId5" Type="http://schemas.openxmlformats.org/officeDocument/2006/relationships/image" Target="../media/image42.wmf"/><Relationship Id="rId6" Type="http://schemas.openxmlformats.org/officeDocument/2006/relationships/image" Target="../media/image42.wmf"/><Relationship Id="rId7" Type="http://schemas.openxmlformats.org/officeDocument/2006/relationships/image" Target="../media/image42.wmf"/><Relationship Id="rId8" Type="http://schemas.openxmlformats.org/officeDocument/2006/relationships/image" Target="../media/image38.jpeg"/><Relationship Id="rId9" Type="http://schemas.openxmlformats.org/officeDocument/2006/relationships/image" Target="../media/image43.png"/><Relationship Id="rId10" Type="http://schemas.openxmlformats.org/officeDocument/2006/relationships/image" Target="../media/image44.wmf"/><Relationship Id="rId11" Type="http://schemas.openxmlformats.org/officeDocument/2006/relationships/image" Target="../media/image45.jpeg"/><Relationship Id="rId12" Type="http://schemas.openxmlformats.org/officeDocument/2006/relationships/image" Target="../media/image46.wmf"/><Relationship Id="rId13" Type="http://schemas.openxmlformats.org/officeDocument/2006/relationships/image" Target="../media/image47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image" Target="../media/image39.png"/><Relationship Id="rId4" Type="http://schemas.openxmlformats.org/officeDocument/2006/relationships/image" Target="../media/image31.png"/><Relationship Id="rId5" Type="http://schemas.openxmlformats.org/officeDocument/2006/relationships/image" Target="../media/image37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49.png"/><Relationship Id="rId4" Type="http://schemas.openxmlformats.org/officeDocument/2006/relationships/image" Target="../media/image37.png"/><Relationship Id="rId5" Type="http://schemas.openxmlformats.org/officeDocument/2006/relationships/image" Target="../media/image48.png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16.png"/><Relationship Id="rId14" Type="http://schemas.openxmlformats.org/officeDocument/2006/relationships/image" Target="../media/image22.png"/><Relationship Id="rId15" Type="http://schemas.openxmlformats.org/officeDocument/2006/relationships/image" Target="../media/image23.wmf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8.wmf"/><Relationship Id="rId15" Type="http://schemas.openxmlformats.org/officeDocument/2006/relationships/image" Target="../media/image36.png"/><Relationship Id="rId16" Type="http://schemas.openxmlformats.org/officeDocument/2006/relationships/image" Target="../media/image24.wmf"/><Relationship Id="rId17" Type="http://schemas.openxmlformats.org/officeDocument/2006/relationships/image" Target="../media/image25.wmf"/><Relationship Id="rId18" Type="http://schemas.openxmlformats.org/officeDocument/2006/relationships/image" Target="../media/image26.wmf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31.png"/><Relationship Id="rId23" Type="http://schemas.openxmlformats.org/officeDocument/2006/relationships/image" Target="../media/image37.png"/><Relationship Id="rId24" Type="http://schemas.openxmlformats.org/officeDocument/2006/relationships/image" Target="../media/image30.png"/><Relationship Id="rId25" Type="http://schemas.openxmlformats.org/officeDocument/2006/relationships/image" Target="../media/image38.jpeg"/><Relationship Id="rId26" Type="http://schemas.openxmlformats.org/officeDocument/2006/relationships/image" Target="../media/image39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39.png"/><Relationship Id="rId30" Type="http://schemas.openxmlformats.org/officeDocument/2006/relationships/image" Target="../media/image39.png"/><Relationship Id="rId31" Type="http://schemas.openxmlformats.org/officeDocument/2006/relationships/image" Target="../media/image40.png"/><Relationship Id="rId32" Type="http://schemas.openxmlformats.org/officeDocument/2006/relationships/image" Target="../media/image36.png"/><Relationship Id="rId3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89480" y="118728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Lisbon, 11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0400" y="1638360"/>
            <a:ext cx="540072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78c7"/>
                </a:solidFill>
                <a:latin typeface="Verdana"/>
              </a:rPr>
              <a:t>SSN11/3/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PSC requirements for 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Frank Rohling</a:t>
            </a:r>
            <a:br>
              <a:rPr sz="1800"/>
            </a:br>
            <a:r>
              <a:rPr b="1" lang="en-US" sz="1200" spc="-1" strike="noStrike">
                <a:solidFill>
                  <a:srgbClr val="0078c7"/>
                </a:solidFill>
                <a:latin typeface="Verdana"/>
              </a:rPr>
              <a:t>Project manager THETIS</a:t>
            </a:r>
            <a:br>
              <a:rPr sz="1200"/>
            </a:br>
            <a:r>
              <a:rPr b="1" lang="en-US" sz="1200" spc="-1" strike="noStrike">
                <a:solidFill>
                  <a:srgbClr val="0078c7"/>
                </a:solidFill>
                <a:latin typeface="Verdana"/>
              </a:rPr>
              <a:t>Senior Project Officer for P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E97-AE16-452B-9D37-750B80390372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Notification and identification (BR 1)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2276280"/>
            <a:ext cx="776772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6000"/>
              </a:lnSpc>
              <a:spcBef>
                <a:spcPts val="499"/>
              </a:spcBef>
              <a:spcAft>
                <a:spcPts val="4501"/>
              </a:spcAft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Ships are identified in a similar way as in SSN:   </a:t>
            </a:r>
            <a:br>
              <a:rPr sz="1800"/>
            </a:b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name, IMO, mmsi, callsign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(PSC Directive annex III)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0">
              <a:lnSpc>
                <a:spcPct val="106000"/>
              </a:lnSpc>
              <a:spcBef>
                <a:spcPts val="499"/>
              </a:spcBef>
              <a:spcAft>
                <a:spcPts val="45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29F-B9A1-418E-B319-D78D919C6ED0}" type="slidenum">
              <a:t>10</a:t>
            </a:fld>
          </a:p>
        </p:txBody>
      </p:sp>
    </p:spTree>
  </p:cSld>
  <p:transition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Reporting Obligations  (BR 2)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276280"/>
            <a:ext cx="776772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6000"/>
              </a:lnSpc>
              <a:spcBef>
                <a:spcPts val="499"/>
              </a:spcBef>
              <a:spcAft>
                <a:spcPts val="4000"/>
              </a:spcAft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2b71"/>
                </a:solidFill>
                <a:latin typeface="Verdana"/>
              </a:rPr>
              <a:t>72H Before ETA if eligible for Expanded Inspection</a:t>
            </a:r>
            <a:br>
              <a:rPr sz="2200"/>
            </a:br>
            <a:r>
              <a:rPr b="0" lang="en-US" sz="1800" spc="-1" strike="noStrike">
                <a:solidFill>
                  <a:srgbClr val="3399ff"/>
                </a:solidFill>
                <a:latin typeface="Verdana"/>
              </a:rPr>
              <a:t>PSC Directive – </a:t>
            </a:r>
            <a:r>
              <a:rPr b="0" i="1" lang="en-US" sz="1600" spc="-1" strike="noStrike">
                <a:solidFill>
                  <a:srgbClr val="3399ff"/>
                </a:solidFill>
                <a:latin typeface="Verdana"/>
              </a:rPr>
              <a:t>Article 9  and Annex III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This is an obligation on masters, not on SSN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106000"/>
              </a:lnSpc>
              <a:spcBef>
                <a:spcPts val="499"/>
              </a:spcBef>
              <a:spcAft>
                <a:spcPts val="4000"/>
              </a:spcAft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2b71"/>
                </a:solidFill>
                <a:latin typeface="Verdana"/>
              </a:rPr>
              <a:t>24H Before ETA for every ship</a:t>
            </a:r>
            <a:br>
              <a:rPr sz="2200"/>
            </a:br>
            <a:r>
              <a:rPr b="0" lang="en-US" sz="1800" spc="-1" strike="noStrike">
                <a:solidFill>
                  <a:srgbClr val="3399ff"/>
                </a:solidFill>
                <a:latin typeface="Verdana"/>
              </a:rPr>
              <a:t>VTM Directive (2009/17/EC) – </a:t>
            </a:r>
            <a:r>
              <a:rPr b="0" i="1" lang="en-US" sz="1600" spc="-1" strike="noStrike">
                <a:solidFill>
                  <a:srgbClr val="3399ff"/>
                </a:solidFill>
                <a:latin typeface="Verdana"/>
              </a:rPr>
              <a:t>Article 4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106000"/>
              </a:lnSpc>
              <a:spcBef>
                <a:spcPts val="499"/>
              </a:spcBef>
              <a:spcAft>
                <a:spcPts val="4000"/>
              </a:spcAft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2b71"/>
                </a:solidFill>
                <a:latin typeface="Verdana"/>
              </a:rPr>
              <a:t>ATA and ATD within a reasonable time</a:t>
            </a:r>
            <a:br>
              <a:rPr sz="2200"/>
            </a:br>
            <a:r>
              <a:rPr b="0" lang="en-US" sz="1800" spc="-1" strike="noStrike">
                <a:solidFill>
                  <a:srgbClr val="3399ff"/>
                </a:solidFill>
                <a:latin typeface="Verdana"/>
              </a:rPr>
              <a:t>PSC Directive – </a:t>
            </a:r>
            <a:r>
              <a:rPr b="0" i="1" lang="en-US" sz="1600" spc="-1" strike="noStrike">
                <a:solidFill>
                  <a:srgbClr val="3399ff"/>
                </a:solidFill>
                <a:latin typeface="Verdana"/>
              </a:rPr>
              <a:t>Article 24.2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38040" indent="0">
              <a:lnSpc>
                <a:spcPct val="106000"/>
              </a:lnSpc>
              <a:spcBef>
                <a:spcPts val="499"/>
              </a:spcBef>
              <a:spcAft>
                <a:spcPts val="40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85B-FCC3-4621-A285-A325FB6C4A88}" type="slidenum">
              <a:t>11</a:t>
            </a:fld>
          </a:p>
        </p:txBody>
      </p:sp>
    </p:spTree>
  </p:cSld>
  <p:transition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597040" y="2924280"/>
            <a:ext cx="4496040" cy="1724040"/>
          </a:xfrm>
          <a:custGeom>
            <a:avLst/>
            <a:gdLst/>
            <a:ahLst/>
            <a:rect l="l" t="t" r="r" b="b"/>
            <a:pathLst>
              <a:path w="2812" h="824">
                <a:moveTo>
                  <a:pt x="0" y="0"/>
                </a:moveTo>
                <a:cubicBezTo>
                  <a:pt x="249" y="185"/>
                  <a:pt x="499" y="370"/>
                  <a:pt x="771" y="499"/>
                </a:cubicBezTo>
                <a:cubicBezTo>
                  <a:pt x="1043" y="628"/>
                  <a:pt x="1293" y="718"/>
                  <a:pt x="1633" y="771"/>
                </a:cubicBezTo>
                <a:cubicBezTo>
                  <a:pt x="1973" y="824"/>
                  <a:pt x="2392" y="820"/>
                  <a:pt x="2812" y="816"/>
                </a:cubicBezTo>
              </a:path>
            </a:pathLst>
          </a:custGeom>
          <a:noFill/>
          <a:ln w="381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597040" y="5013360"/>
            <a:ext cx="4503960" cy="936720"/>
          </a:xfrm>
          <a:custGeom>
            <a:avLst/>
            <a:gdLst/>
            <a:ahLst/>
            <a:rect l="l" t="t" r="r" b="b"/>
            <a:pathLst>
              <a:path w="2812" h="824">
                <a:moveTo>
                  <a:pt x="0" y="0"/>
                </a:moveTo>
                <a:cubicBezTo>
                  <a:pt x="249" y="185"/>
                  <a:pt x="499" y="370"/>
                  <a:pt x="771" y="499"/>
                </a:cubicBezTo>
                <a:cubicBezTo>
                  <a:pt x="1043" y="628"/>
                  <a:pt x="1293" y="718"/>
                  <a:pt x="1633" y="771"/>
                </a:cubicBezTo>
                <a:cubicBezTo>
                  <a:pt x="1973" y="824"/>
                  <a:pt x="2392" y="820"/>
                  <a:pt x="2812" y="816"/>
                </a:cubicBezTo>
              </a:path>
            </a:pathLst>
          </a:custGeom>
          <a:noFill/>
          <a:ln w="381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597040" y="4557600"/>
            <a:ext cx="4492800" cy="208080"/>
          </a:xfrm>
          <a:custGeom>
            <a:avLst/>
            <a:gdLst/>
            <a:ahLst/>
            <a:rect l="l" t="t" r="r" b="b"/>
            <a:pathLst>
              <a:path w="2676" h="454">
                <a:moveTo>
                  <a:pt x="0" y="454"/>
                </a:moveTo>
                <a:cubicBezTo>
                  <a:pt x="189" y="374"/>
                  <a:pt x="378" y="295"/>
                  <a:pt x="635" y="227"/>
                </a:cubicBezTo>
                <a:cubicBezTo>
                  <a:pt x="892" y="159"/>
                  <a:pt x="1202" y="83"/>
                  <a:pt x="1542" y="45"/>
                </a:cubicBezTo>
                <a:cubicBezTo>
                  <a:pt x="1882" y="7"/>
                  <a:pt x="2279" y="3"/>
                  <a:pt x="2676" y="0"/>
                </a:cubicBezTo>
              </a:path>
            </a:pathLst>
          </a:custGeom>
          <a:noFill/>
          <a:ln w="38160">
            <a:solidFill>
              <a:srgbClr val="0055f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97040" y="4889520"/>
            <a:ext cx="4503960" cy="628560"/>
          </a:xfrm>
          <a:custGeom>
            <a:avLst/>
            <a:gdLst/>
            <a:ahLst/>
            <a:rect l="l" t="t" r="r" b="b"/>
            <a:pathLst>
              <a:path w="2812" h="824">
                <a:moveTo>
                  <a:pt x="0" y="0"/>
                </a:moveTo>
                <a:cubicBezTo>
                  <a:pt x="249" y="185"/>
                  <a:pt x="499" y="370"/>
                  <a:pt x="771" y="499"/>
                </a:cubicBezTo>
                <a:cubicBezTo>
                  <a:pt x="1043" y="628"/>
                  <a:pt x="1293" y="718"/>
                  <a:pt x="1633" y="771"/>
                </a:cubicBezTo>
                <a:cubicBezTo>
                  <a:pt x="1973" y="824"/>
                  <a:pt x="2392" y="820"/>
                  <a:pt x="2812" y="816"/>
                </a:cubicBezTo>
              </a:path>
            </a:pathLst>
          </a:custGeom>
          <a:noFill/>
          <a:ln w="381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55280" y="1835280"/>
            <a:ext cx="2521080" cy="4695840"/>
            <a:chOff x="755280" y="1835280"/>
            <a:chExt cx="2521080" cy="4695840"/>
          </a:xfrm>
        </p:grpSpPr>
        <p:sp>
          <p:nvSpPr>
            <p:cNvPr id="296" name=""/>
            <p:cNvSpPr/>
            <p:nvPr/>
          </p:nvSpPr>
          <p:spPr>
            <a:xfrm>
              <a:off x="826920" y="1905120"/>
              <a:ext cx="1087560" cy="4626000"/>
            </a:xfrm>
            <a:prstGeom prst="rect">
              <a:avLst/>
            </a:prstGeom>
            <a:gradFill rotWithShape="0">
              <a:gsLst>
                <a:gs pos="0">
                  <a:srgbClr val="abc7fe"/>
                </a:gs>
                <a:gs pos="100000">
                  <a:srgbClr val="5d93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1907280" y="1905120"/>
              <a:ext cx="1087560" cy="4626000"/>
            </a:xfrm>
            <a:prstGeom prst="rect">
              <a:avLst/>
            </a:prstGeom>
            <a:gradFill rotWithShape="0">
              <a:gsLst>
                <a:gs pos="0">
                  <a:srgbClr val="b0967c"/>
                </a:gs>
                <a:gs pos="100000">
                  <a:srgbClr val="6633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754920" y="183528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00000" y="2276640"/>
            <a:ext cx="1008000" cy="338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50920" y="1916280"/>
            <a:ext cx="720720" cy="537840"/>
            <a:chOff x="250920" y="1916280"/>
            <a:chExt cx="720720" cy="537840"/>
          </a:xfrm>
        </p:grpSpPr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>
              <a:off x="250920" y="1916280"/>
              <a:ext cx="53820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3"/>
            <a:stretch/>
          </p:blipFill>
          <p:spPr>
            <a:xfrm flipH="1">
              <a:off x="755640" y="2133720"/>
              <a:ext cx="21600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Reporting Obligations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2188800" y="5445000"/>
            <a:ext cx="461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Tahoma"/>
              </a:rPr>
              <a:t>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 flipH="1">
            <a:off x="1115640" y="4400640"/>
            <a:ext cx="647640" cy="3967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144520" y="4427640"/>
            <a:ext cx="50688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55fe"/>
                </a:solidFill>
                <a:latin typeface="Tahoma"/>
              </a:rPr>
              <a:t>24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 flipH="1">
            <a:off x="826560" y="2781360"/>
            <a:ext cx="360360" cy="2206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144520" y="2744640"/>
            <a:ext cx="50688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Tahoma"/>
              </a:rPr>
              <a:t>72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76560" y="5840280"/>
            <a:ext cx="4748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Tahoma"/>
              </a:rPr>
              <a:t>A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331640" y="5999040"/>
            <a:ext cx="579240" cy="4543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6"/>
          <a:stretch/>
        </p:blipFill>
        <p:spPr>
          <a:xfrm flipH="1">
            <a:off x="1188720" y="5300640"/>
            <a:ext cx="934920" cy="507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7"/>
          <a:stretch/>
        </p:blipFill>
        <p:spPr>
          <a:xfrm flipH="1">
            <a:off x="1188720" y="5670720"/>
            <a:ext cx="934920" cy="507960"/>
          </a:xfrm>
          <a:prstGeom prst="rect">
            <a:avLst/>
          </a:prstGeom>
          <a:ln w="0">
            <a:noFill/>
          </a:ln>
        </p:spPr>
      </p:pic>
      <p:grpSp>
        <p:nvGrpSpPr>
          <p:cNvPr id="313" name=""/>
          <p:cNvGrpSpPr/>
          <p:nvPr/>
        </p:nvGrpSpPr>
        <p:grpSpPr>
          <a:xfrm>
            <a:off x="5769000" y="3511440"/>
            <a:ext cx="1035000" cy="2178000"/>
            <a:chOff x="5769000" y="3511440"/>
            <a:chExt cx="1035000" cy="2178000"/>
          </a:xfrm>
        </p:grpSpPr>
        <p:pic>
          <p:nvPicPr>
            <p:cNvPr id="314" name="" descr=""/>
            <p:cNvPicPr/>
            <p:nvPr/>
          </p:nvPicPr>
          <p:blipFill>
            <a:blip r:embed="rId8"/>
            <a:stretch/>
          </p:blipFill>
          <p:spPr>
            <a:xfrm>
              <a:off x="5769000" y="3511440"/>
              <a:ext cx="103500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9"/>
            <a:stretch/>
          </p:blipFill>
          <p:spPr>
            <a:xfrm>
              <a:off x="5940360" y="4330440"/>
              <a:ext cx="684360" cy="135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"/>
          <p:cNvGrpSpPr/>
          <p:nvPr/>
        </p:nvGrpSpPr>
        <p:grpSpPr>
          <a:xfrm>
            <a:off x="7108920" y="4181400"/>
            <a:ext cx="1231920" cy="1263600"/>
            <a:chOff x="7108920" y="4181400"/>
            <a:chExt cx="1231920" cy="1263600"/>
          </a:xfrm>
        </p:grpSpPr>
        <p:sp>
          <p:nvSpPr>
            <p:cNvPr id="317" name=""/>
            <p:cNvSpPr/>
            <p:nvPr/>
          </p:nvSpPr>
          <p:spPr>
            <a:xfrm>
              <a:off x="7108920" y="4181400"/>
              <a:ext cx="1231920" cy="1263600"/>
            </a:xfrm>
            <a:prstGeom prst="ellipse">
              <a:avLst/>
            </a:prstGeom>
            <a:gradFill rotWithShape="0">
              <a:gsLst>
                <a:gs pos="0">
                  <a:srgbClr val="a8dbec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2b71"/>
                  </a:solidFill>
                  <a:latin typeface="Verdana"/>
                </a:rPr>
                <a:t>THET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10"/>
            <a:stretch/>
          </p:blipFill>
          <p:spPr>
            <a:xfrm>
              <a:off x="7472160" y="4660560"/>
              <a:ext cx="613800" cy="65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"/>
          <p:cNvGrpSpPr/>
          <p:nvPr/>
        </p:nvGrpSpPr>
        <p:grpSpPr>
          <a:xfrm>
            <a:off x="3995640" y="4292640"/>
            <a:ext cx="1367280" cy="1002600"/>
            <a:chOff x="3995640" y="4292640"/>
            <a:chExt cx="1367280" cy="1002600"/>
          </a:xfrm>
        </p:grpSpPr>
        <p:grpSp>
          <p:nvGrpSpPr>
            <p:cNvPr id="320" name=""/>
            <p:cNvGrpSpPr/>
            <p:nvPr/>
          </p:nvGrpSpPr>
          <p:grpSpPr>
            <a:xfrm>
              <a:off x="4027680" y="4292640"/>
              <a:ext cx="1335240" cy="1002600"/>
              <a:chOff x="4027680" y="4292640"/>
              <a:chExt cx="1335240" cy="1002600"/>
            </a:xfrm>
          </p:grpSpPr>
          <p:sp>
            <p:nvSpPr>
              <p:cNvPr id="321" name=""/>
              <p:cNvSpPr/>
              <p:nvPr/>
            </p:nvSpPr>
            <p:spPr>
              <a:xfrm>
                <a:off x="4370760" y="4292640"/>
                <a:ext cx="992160" cy="991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118400" y="4399920"/>
                <a:ext cx="506520" cy="516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027680" y="4750200"/>
                <a:ext cx="565200" cy="54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995640" y="4349880"/>
              <a:ext cx="1297080" cy="879840"/>
              <a:chOff x="3995640" y="4349880"/>
              <a:chExt cx="1297080" cy="87984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4441320" y="4349880"/>
                <a:ext cx="851400" cy="849600"/>
                <a:chOff x="4441320" y="4349880"/>
                <a:chExt cx="851400" cy="849600"/>
              </a:xfrm>
            </p:grpSpPr>
            <p:pic>
              <p:nvPicPr>
                <p:cNvPr id="3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441320" y="4349880"/>
                  <a:ext cx="851400" cy="8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7" name=""/>
                <p:cNvSpPr/>
                <p:nvPr/>
              </p:nvSpPr>
              <p:spPr>
                <a:xfrm>
                  <a:off x="4511880" y="4420440"/>
                  <a:ext cx="726480" cy="506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547520" y="4480920"/>
                  <a:ext cx="653040" cy="36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2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995640" y="4472640"/>
                <a:ext cx="756360" cy="757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0" name=""/>
          <p:cNvSpPr/>
          <p:nvPr/>
        </p:nvSpPr>
        <p:spPr>
          <a:xfrm>
            <a:off x="2662200" y="4251240"/>
            <a:ext cx="90000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55fe"/>
                </a:solidFill>
                <a:latin typeface="Tahoma"/>
              </a:rPr>
              <a:t>VTM Directive Requir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59280" y="3213000"/>
            <a:ext cx="93636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3399"/>
                </a:solidFill>
                <a:latin typeface="Tahoma"/>
              </a:rPr>
              <a:t>PSC Directive Requir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16360" y="5734080"/>
            <a:ext cx="93636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3399"/>
                </a:solidFill>
                <a:latin typeface="Tahoma"/>
              </a:rPr>
              <a:t>PSC Directive Requir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466-64B1-4E84-BA85-7796EE9A74E9}" type="slidenum">
              <a:t>12</a:t>
            </a:fld>
          </a:p>
        </p:txBody>
      </p:sp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5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65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85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9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95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1333440" y="1595520"/>
            <a:ext cx="4403520" cy="4713120"/>
            <a:chOff x="1333440" y="1595520"/>
            <a:chExt cx="4403520" cy="4713120"/>
          </a:xfrm>
        </p:grpSpPr>
        <p:sp>
          <p:nvSpPr>
            <p:cNvPr id="334" name=""/>
            <p:cNvSpPr/>
            <p:nvPr/>
          </p:nvSpPr>
          <p:spPr>
            <a:xfrm>
              <a:off x="1333440" y="1844640"/>
              <a:ext cx="4353120" cy="4464000"/>
            </a:xfrm>
            <a:prstGeom prst="ellipse">
              <a:avLst/>
            </a:prstGeom>
            <a:gradFill rotWithShape="0">
              <a:gsLst>
                <a:gs pos="0">
                  <a:srgbClr val="a8dbec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 rot="2343000">
              <a:off x="3436560" y="2158920"/>
              <a:ext cx="2189160" cy="1128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437221"/>
                </a:avLst>
              </a:prstTxWarp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95cef5"/>
                  </a:solidFill>
                  <a:latin typeface="Arial Black"/>
                </a:rPr>
                <a:t>THETIS</a:t>
              </a:r>
              <a:endParaRPr b="0" lang="en-US" sz="2400" spc="1" strike="noStrike">
                <a:ln w="0">
                  <a:noFill/>
                </a:ln>
                <a:solidFill>
                  <a:srgbClr val="95cef5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The Purpose of Each Message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013440" y="35258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7667640" y="3592440"/>
            <a:ext cx="792000" cy="7891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6400" y="3040200"/>
            <a:ext cx="50688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55fe"/>
                </a:solidFill>
                <a:latin typeface="Tahoma"/>
              </a:rPr>
              <a:t>24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9640" y="2787480"/>
            <a:ext cx="50004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Tahoma"/>
              </a:rPr>
              <a:t>72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4840" y="4991040"/>
            <a:ext cx="461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Tahoma"/>
              </a:rPr>
              <a:t>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52240" y="5180040"/>
            <a:ext cx="4748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Tahoma"/>
              </a:rPr>
              <a:t>A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50840" y="2914560"/>
            <a:ext cx="930240" cy="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0840" y="3144960"/>
            <a:ext cx="930240" cy="0"/>
          </a:xfrm>
          <a:prstGeom prst="line">
            <a:avLst/>
          </a:prstGeom>
          <a:ln w="38160">
            <a:solidFill>
              <a:srgbClr val="0055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28880" y="5305320"/>
            <a:ext cx="930240" cy="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28880" y="5073480"/>
            <a:ext cx="930240" cy="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Database 128x128 px"/>
          <p:cNvPicPr/>
          <p:nvPr/>
        </p:nvPicPr>
        <p:blipFill>
          <a:blip r:embed="rId4"/>
          <a:stretch/>
        </p:blipFill>
        <p:spPr>
          <a:xfrm>
            <a:off x="1981080" y="273384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Process 128x128 px"/>
          <p:cNvPicPr/>
          <p:nvPr/>
        </p:nvPicPr>
        <p:blipFill>
          <a:blip r:embed="rId5"/>
          <a:stretch/>
        </p:blipFill>
        <p:spPr>
          <a:xfrm>
            <a:off x="2017800" y="494172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Application Icon - 128x128px"/>
          <p:cNvPicPr/>
          <p:nvPr/>
        </p:nvPicPr>
        <p:blipFill>
          <a:blip r:embed="rId6"/>
          <a:stretch/>
        </p:blipFill>
        <p:spPr>
          <a:xfrm>
            <a:off x="4321080" y="273384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Chart Icon - 128x128px"/>
          <p:cNvPicPr/>
          <p:nvPr/>
        </p:nvPicPr>
        <p:blipFill>
          <a:blip r:embed="rId7"/>
          <a:stretch/>
        </p:blipFill>
        <p:spPr>
          <a:xfrm>
            <a:off x="4299120" y="4894200"/>
            <a:ext cx="634680" cy="635040"/>
          </a:xfrm>
          <a:prstGeom prst="rect">
            <a:avLst/>
          </a:prstGeom>
          <a:ln w="0">
            <a:noFill/>
          </a:ln>
        </p:spPr>
      </p:pic>
      <p:grpSp>
        <p:nvGrpSpPr>
          <p:cNvPr id="351" name=""/>
          <p:cNvGrpSpPr/>
          <p:nvPr/>
        </p:nvGrpSpPr>
        <p:grpSpPr>
          <a:xfrm>
            <a:off x="2176920" y="3790800"/>
            <a:ext cx="1318680" cy="474840"/>
            <a:chOff x="2176920" y="3790800"/>
            <a:chExt cx="1318680" cy="474840"/>
          </a:xfrm>
        </p:grpSpPr>
        <p:pic>
          <p:nvPicPr>
            <p:cNvPr id="352" name="" descr="Database 128x128 px"/>
            <p:cNvPicPr/>
            <p:nvPr/>
          </p:nvPicPr>
          <p:blipFill>
            <a:blip r:embed="rId8"/>
            <a:stretch/>
          </p:blipFill>
          <p:spPr>
            <a:xfrm>
              <a:off x="3043080" y="3790800"/>
              <a:ext cx="45252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176920" y="3930480"/>
              <a:ext cx="9183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SHI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PARTICULA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720880" y="3040200"/>
            <a:ext cx="142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20880" y="5211720"/>
            <a:ext cx="142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8160" y="3028680"/>
            <a:ext cx="0" cy="703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65440" y="4509360"/>
            <a:ext cx="0" cy="69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3440" y="5589720"/>
            <a:ext cx="17931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SSES, TARGETT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S FAIR S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15960" y="2241720"/>
            <a:ext cx="22197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LANNING OF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824520" y="3454560"/>
            <a:ext cx="886320" cy="682200"/>
            <a:chOff x="6824520" y="3454560"/>
            <a:chExt cx="886320" cy="682200"/>
          </a:xfrm>
        </p:grpSpPr>
        <p:sp>
          <p:nvSpPr>
            <p:cNvPr id="361" name=""/>
            <p:cNvSpPr/>
            <p:nvPr/>
          </p:nvSpPr>
          <p:spPr>
            <a:xfrm rot="16200000">
              <a:off x="7154640" y="3731760"/>
              <a:ext cx="297000" cy="512640"/>
            </a:xfrm>
            <a:prstGeom prst="downArrow">
              <a:avLst>
                <a:gd name="adj1" fmla="val 50000"/>
                <a:gd name="adj2" fmla="val 43152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24520" y="3454560"/>
              <a:ext cx="886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ALLO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997880" y="3016440"/>
            <a:ext cx="1318320" cy="2211120"/>
            <a:chOff x="4997880" y="3016440"/>
            <a:chExt cx="1318320" cy="2211120"/>
          </a:xfrm>
        </p:grpSpPr>
        <p:sp>
          <p:nvSpPr>
            <p:cNvPr id="364" name=""/>
            <p:cNvSpPr/>
            <p:nvPr/>
          </p:nvSpPr>
          <p:spPr>
            <a:xfrm rot="198000">
              <a:off x="5013000" y="3052800"/>
              <a:ext cx="1285920" cy="576360"/>
            </a:xfrm>
            <a:custGeom>
              <a:avLst/>
              <a:gdLst/>
              <a:ahLst/>
              <a:rect l="l" t="t" r="r" b="b"/>
              <a:pathLst>
                <a:path w="862" h="424">
                  <a:moveTo>
                    <a:pt x="0" y="15"/>
                  </a:moveTo>
                  <a:cubicBezTo>
                    <a:pt x="189" y="7"/>
                    <a:pt x="378" y="0"/>
                    <a:pt x="499" y="15"/>
                  </a:cubicBezTo>
                  <a:cubicBezTo>
                    <a:pt x="620" y="30"/>
                    <a:pt x="673" y="68"/>
                    <a:pt x="726" y="106"/>
                  </a:cubicBezTo>
                  <a:cubicBezTo>
                    <a:pt x="779" y="144"/>
                    <a:pt x="794" y="189"/>
                    <a:pt x="817" y="242"/>
                  </a:cubicBezTo>
                  <a:cubicBezTo>
                    <a:pt x="840" y="295"/>
                    <a:pt x="851" y="359"/>
                    <a:pt x="862" y="4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 rot="21402000">
              <a:off x="5013000" y="4614480"/>
              <a:ext cx="1287360" cy="576360"/>
            </a:xfrm>
            <a:custGeom>
              <a:avLst/>
              <a:gdLst/>
              <a:ahLst/>
              <a:rect l="l" t="t" r="r" b="b"/>
              <a:pathLst>
                <a:path w="862" h="424">
                  <a:moveTo>
                    <a:pt x="0" y="15"/>
                  </a:moveTo>
                  <a:cubicBezTo>
                    <a:pt x="189" y="7"/>
                    <a:pt x="378" y="0"/>
                    <a:pt x="499" y="15"/>
                  </a:cubicBezTo>
                  <a:cubicBezTo>
                    <a:pt x="620" y="30"/>
                    <a:pt x="673" y="68"/>
                    <a:pt x="726" y="106"/>
                  </a:cubicBezTo>
                  <a:cubicBezTo>
                    <a:pt x="779" y="144"/>
                    <a:pt x="794" y="189"/>
                    <a:pt x="817" y="242"/>
                  </a:cubicBezTo>
                  <a:cubicBezTo>
                    <a:pt x="840" y="295"/>
                    <a:pt x="851" y="359"/>
                    <a:pt x="862" y="4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306600" y="3987720"/>
            <a:ext cx="1279440" cy="473400"/>
            <a:chOff x="3306600" y="3987720"/>
            <a:chExt cx="1279440" cy="473400"/>
          </a:xfrm>
        </p:grpSpPr>
        <p:sp>
          <p:nvSpPr>
            <p:cNvPr id="367" name=""/>
            <p:cNvSpPr/>
            <p:nvPr/>
          </p:nvSpPr>
          <p:spPr>
            <a:xfrm>
              <a:off x="3672360" y="4125960"/>
              <a:ext cx="913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SHI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INSPEC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8" name="" descr="Database 128x128 px"/>
            <p:cNvPicPr/>
            <p:nvPr/>
          </p:nvPicPr>
          <p:blipFill>
            <a:blip r:embed="rId9"/>
            <a:stretch/>
          </p:blipFill>
          <p:spPr>
            <a:xfrm>
              <a:off x="3306600" y="3987720"/>
              <a:ext cx="452520" cy="4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2B3-10CA-4300-AA90-ED0CBC118AD0}" type="slidenum">
              <a:t>13</a:t>
            </a:fld>
          </a:p>
        </p:txBody>
      </p:sp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38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88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88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8380"/>
                            </p:stCondLst>
                            <p:childTnLst>
                              <p:par>
                                <p:cTn id="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888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938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1783080" y="930240"/>
            <a:ext cx="5793840" cy="5792760"/>
            <a:chOff x="1783080" y="930240"/>
            <a:chExt cx="5793840" cy="5792760"/>
          </a:xfrm>
        </p:grpSpPr>
        <p:grpSp>
          <p:nvGrpSpPr>
            <p:cNvPr id="370" name=""/>
            <p:cNvGrpSpPr/>
            <p:nvPr/>
          </p:nvGrpSpPr>
          <p:grpSpPr>
            <a:xfrm>
              <a:off x="1783080" y="930240"/>
              <a:ext cx="5793840" cy="5792760"/>
              <a:chOff x="1783080" y="930240"/>
              <a:chExt cx="5793840" cy="5792760"/>
            </a:xfrm>
          </p:grpSpPr>
          <p:sp>
            <p:nvSpPr>
              <p:cNvPr id="371" name=""/>
              <p:cNvSpPr/>
              <p:nvPr/>
            </p:nvSpPr>
            <p:spPr>
              <a:xfrm flipV="1" rot="7970400">
                <a:off x="2635560" y="1771200"/>
                <a:ext cx="4089240" cy="4109760"/>
              </a:xfrm>
              <a:prstGeom prst="blockArc">
                <a:avLst>
                  <a:gd name="adj1" fmla="val 13395857"/>
                  <a:gd name="adj2" fmla="val 19004143"/>
                  <a:gd name="adj3" fmla="val 47519"/>
                </a:avLst>
              </a:prstGeom>
              <a:solidFill>
                <a:srgbClr val="61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387320" y="3554280"/>
                <a:ext cx="286920" cy="287280"/>
              </a:xfrm>
              <a:prstGeom prst="rect">
                <a:avLst/>
              </a:prstGeom>
              <a:solidFill>
                <a:srgbClr val="61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V="1">
              <a:off x="2482920" y="3533760"/>
              <a:ext cx="288720" cy="287280"/>
            </a:xfrm>
            <a:prstGeom prst="triangle">
              <a:avLst>
                <a:gd name="adj" fmla="val 50000"/>
              </a:avLst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785600" y="933480"/>
            <a:ext cx="5788800" cy="5786640"/>
            <a:chOff x="1785600" y="933480"/>
            <a:chExt cx="5788800" cy="5786640"/>
          </a:xfrm>
        </p:grpSpPr>
        <p:grpSp>
          <p:nvGrpSpPr>
            <p:cNvPr id="375" name=""/>
            <p:cNvGrpSpPr/>
            <p:nvPr/>
          </p:nvGrpSpPr>
          <p:grpSpPr>
            <a:xfrm>
              <a:off x="1785600" y="933480"/>
              <a:ext cx="5788800" cy="5786640"/>
              <a:chOff x="1785600" y="933480"/>
              <a:chExt cx="5788800" cy="5786640"/>
            </a:xfrm>
          </p:grpSpPr>
          <p:sp>
            <p:nvSpPr>
              <p:cNvPr id="376" name=""/>
              <p:cNvSpPr/>
              <p:nvPr/>
            </p:nvSpPr>
            <p:spPr>
              <a:xfrm flipH="1" flipV="1" rot="13704000">
                <a:off x="2635200" y="1771560"/>
                <a:ext cx="4089240" cy="4110120"/>
              </a:xfrm>
              <a:prstGeom prst="blockArc">
                <a:avLst>
                  <a:gd name="adj1" fmla="val 13211055"/>
                  <a:gd name="adj2" fmla="val 19188945"/>
                  <a:gd name="adj3" fmla="val 49106"/>
                </a:avLst>
              </a:prstGeom>
              <a:solidFill>
                <a:srgbClr val="0d8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74960" y="3611520"/>
                <a:ext cx="288720" cy="287280"/>
              </a:xfrm>
              <a:prstGeom prst="rect">
                <a:avLst/>
              </a:prstGeom>
              <a:solidFill>
                <a:srgbClr val="0d8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 rot="16200000">
              <a:off x="4621680" y="1629360"/>
              <a:ext cx="289080" cy="286920"/>
            </a:xfrm>
            <a:prstGeom prst="triangle">
              <a:avLst>
                <a:gd name="adj" fmla="val 50000"/>
              </a:avLst>
            </a:prstGeom>
            <a:solidFill>
              <a:srgbClr val="0d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634840" y="1844280"/>
            <a:ext cx="4243680" cy="3979800"/>
            <a:chOff x="2634840" y="1844280"/>
            <a:chExt cx="4243680" cy="3979800"/>
          </a:xfrm>
        </p:grpSpPr>
        <p:sp>
          <p:nvSpPr>
            <p:cNvPr id="380" name=""/>
            <p:cNvSpPr/>
            <p:nvPr/>
          </p:nvSpPr>
          <p:spPr>
            <a:xfrm>
              <a:off x="6589440" y="3852720"/>
              <a:ext cx="289080" cy="287280"/>
            </a:xfrm>
            <a:prstGeom prst="triangle">
              <a:avLst>
                <a:gd name="adj" fmla="val 500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2634840" y="1844280"/>
              <a:ext cx="4089240" cy="3979800"/>
              <a:chOff x="2634840" y="1844280"/>
              <a:chExt cx="4089240" cy="3979800"/>
            </a:xfrm>
          </p:grpSpPr>
          <p:sp>
            <p:nvSpPr>
              <p:cNvPr id="382" name=""/>
              <p:cNvSpPr/>
              <p:nvPr/>
            </p:nvSpPr>
            <p:spPr>
              <a:xfrm rot="10800000">
                <a:off x="2634840" y="1844280"/>
                <a:ext cx="4089240" cy="3979800"/>
              </a:xfrm>
              <a:prstGeom prst="blockArc">
                <a:avLst>
                  <a:gd name="adj1" fmla="val 10839719"/>
                  <a:gd name="adj2" fmla="val 21560281"/>
                  <a:gd name="adj3" fmla="val 41185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027320" y="3843000"/>
                <a:ext cx="1297080" cy="43200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200" spc="-1" strike="noStrike">
                <a:solidFill>
                  <a:srgbClr val="0078c7"/>
                </a:solidFill>
                <a:latin typeface="Verdana"/>
              </a:rPr>
              <a:t>Ship Call Cycle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85" name=""/>
          <p:cNvSpPr/>
          <p:nvPr/>
        </p:nvSpPr>
        <p:spPr>
          <a:xfrm>
            <a:off x="1510200" y="2276640"/>
            <a:ext cx="1310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Tahoma"/>
              </a:rPr>
              <a:t>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25800" y="5948280"/>
            <a:ext cx="1459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Tahoma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62000" y="2278080"/>
            <a:ext cx="1244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Tahoma"/>
              </a:rPr>
              <a:t>Monit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Chart Icon - 128x128px"/>
          <p:cNvPicPr/>
          <p:nvPr/>
        </p:nvPicPr>
        <p:blipFill>
          <a:blip r:embed="rId2"/>
          <a:stretch/>
        </p:blipFill>
        <p:spPr>
          <a:xfrm>
            <a:off x="5076720" y="226836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Application Icon - 128x128px"/>
          <p:cNvPicPr/>
          <p:nvPr/>
        </p:nvPicPr>
        <p:blipFill>
          <a:blip r:embed="rId3"/>
          <a:stretch/>
        </p:blipFill>
        <p:spPr>
          <a:xfrm>
            <a:off x="3695760" y="2268360"/>
            <a:ext cx="612720" cy="61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Process 128x128 px"/>
          <p:cNvPicPr/>
          <p:nvPr/>
        </p:nvPicPr>
        <p:blipFill>
          <a:blip r:embed="rId4"/>
          <a:stretch/>
        </p:blipFill>
        <p:spPr>
          <a:xfrm>
            <a:off x="4356000" y="4172040"/>
            <a:ext cx="625680" cy="6253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604960" y="3525840"/>
            <a:ext cx="6573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2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11760" y="3503520"/>
            <a:ext cx="78732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4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75040" y="3503520"/>
            <a:ext cx="70812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880" y="3503520"/>
            <a:ext cx="7236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24080" y="3848040"/>
            <a:ext cx="487044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87560" y="3787920"/>
            <a:ext cx="98640" cy="110880"/>
          </a:xfrm>
          <a:prstGeom prst="diamond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0960" y="3787920"/>
            <a:ext cx="98280" cy="110880"/>
          </a:xfrm>
          <a:prstGeom prst="diamond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83200" y="3787920"/>
            <a:ext cx="98280" cy="110880"/>
          </a:xfrm>
          <a:prstGeom prst="diamond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5840" y="3787920"/>
            <a:ext cx="98280" cy="110880"/>
          </a:xfrm>
          <a:prstGeom prst="diamond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>
            <a:off x="7080120" y="4932360"/>
            <a:ext cx="1236960" cy="12366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813480" y="4941720"/>
            <a:ext cx="1738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location, 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Visits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ollow-up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21240" y="3111480"/>
            <a:ext cx="2232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6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ir Share, SRP, 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04400" y="3030480"/>
            <a:ext cx="1896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Weekends, Anchorages,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hort Calls, 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6"/>
          <a:stretch/>
        </p:blipFill>
        <p:spPr>
          <a:xfrm flipH="1">
            <a:off x="527040" y="3378240"/>
            <a:ext cx="1511280" cy="82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7C1-C4FC-49F6-A70A-8771C5B80F04}" type="slidenum">
              <a:t>14</a:t>
            </a:fld>
          </a:p>
        </p:txBody>
      </p:sp>
    </p:spTree>
  </p:cSld>
  <p:transition>
    <p:fade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5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000"/>
                            </p:stCondLst>
                            <p:childTnLst>
                              <p:par>
                                <p:cTn id="6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0"/>
                            </p:stCondLst>
                            <p:childTnLst>
                              <p:par>
                                <p:cTn id="6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6000"/>
                            </p:stCondLst>
                            <p:childTnLst>
                              <p:par>
                                <p:cTn id="68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8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65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70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80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8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9500"/>
                            </p:stCondLst>
                            <p:childTnLst>
                              <p:par>
                                <p:cTn id="715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What does PSC do with the messages through SSN?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792144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Preparation of inspections </a:t>
            </a:r>
            <a:r>
              <a:rPr b="0" lang="en-GB" sz="2000" spc="-1" strike="noStrike">
                <a:solidFill>
                  <a:srgbClr val="cc3300"/>
                </a:solidFill>
                <a:latin typeface="Verdana"/>
              </a:rPr>
              <a:t>(72H and 24H)</a:t>
            </a:r>
            <a:br>
              <a:rPr sz="2000"/>
            </a:br>
            <a:r>
              <a:rPr b="0" lang="fr-FR" sz="2000" spc="-1" strike="noStrike">
                <a:solidFill>
                  <a:srgbClr val="0055fe"/>
                </a:solidFill>
                <a:latin typeface="Verdana"/>
              </a:rPr>
              <a:t>Weekends, Anchorages, Short Calls, EI</a:t>
            </a:r>
            <a:br>
              <a:rPr sz="2000"/>
            </a:br>
            <a:r>
              <a:rPr b="0" lang="fr-FR" sz="2000" spc="-1" strike="noStrike">
                <a:solidFill>
                  <a:srgbClr val="0055fe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Management of inspections</a:t>
            </a: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0" lang="en-GB" sz="2000" spc="-1" strike="noStrike">
                <a:solidFill>
                  <a:srgbClr val="cc3300"/>
                </a:solidFill>
                <a:latin typeface="Verdana"/>
              </a:rPr>
              <a:t>72H, 24H, ATA and ATD)</a:t>
            </a:r>
            <a:br>
              <a:rPr sz="2000"/>
            </a:br>
            <a:r>
              <a:rPr b="0" lang="fr-FR" sz="2000" spc="-1" strike="noStrike">
                <a:solidFill>
                  <a:srgbClr val="0055fe"/>
                </a:solidFill>
                <a:latin typeface="Verdana"/>
              </a:rPr>
              <a:t>Allocation, </a:t>
            </a:r>
            <a:r>
              <a:rPr b="0" lang="en-GB" sz="2000" spc="-1" strike="noStrike">
                <a:solidFill>
                  <a:srgbClr val="0055fe"/>
                </a:solidFill>
                <a:latin typeface="Verdana"/>
              </a:rPr>
              <a:t>Visits</a:t>
            </a:r>
            <a:r>
              <a:rPr b="0" lang="fr-FR" sz="2000" spc="-1" strike="noStrike">
                <a:solidFill>
                  <a:srgbClr val="0055fe"/>
                </a:solidFill>
                <a:latin typeface="Verdana"/>
              </a:rPr>
              <a:t>, Follow-up inspections</a:t>
            </a:r>
            <a:br>
              <a:rPr sz="2000"/>
            </a:br>
            <a:r>
              <a:rPr b="0" lang="fr-FR" sz="2000" spc="-1" strike="noStrike">
                <a:solidFill>
                  <a:srgbClr val="0055fe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Monitoring of PSC inspection scheme </a:t>
            </a:r>
            <a:r>
              <a:rPr b="0" lang="en-GB" sz="2000" spc="-1" strike="noStrike">
                <a:solidFill>
                  <a:srgbClr val="cc3300"/>
                </a:solidFill>
                <a:latin typeface="Verdana"/>
              </a:rPr>
              <a:t>(ATA and ATD)</a:t>
            </a:r>
            <a:br>
              <a:rPr sz="2000"/>
            </a:br>
            <a:r>
              <a:rPr b="0" lang="en-GB" sz="2000" spc="-1" strike="noStrike">
                <a:solidFill>
                  <a:srgbClr val="0055fe"/>
                </a:solidFill>
                <a:latin typeface="Verdana"/>
              </a:rPr>
              <a:t>Fair Share, SRS, Priority, Misse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941520" y="1963080"/>
            <a:ext cx="1962720" cy="1302840"/>
            <a:chOff x="6941520" y="1963080"/>
            <a:chExt cx="1962720" cy="1302840"/>
          </a:xfrm>
        </p:grpSpPr>
        <p:sp>
          <p:nvSpPr>
            <p:cNvPr id="408" name=""/>
            <p:cNvSpPr/>
            <p:nvPr/>
          </p:nvSpPr>
          <p:spPr>
            <a:xfrm rot="20894400">
              <a:off x="7020000" y="2135880"/>
              <a:ext cx="1797120" cy="956880"/>
            </a:xfrm>
            <a:prstGeom prst="foldedCorner">
              <a:avLst>
                <a:gd name="adj" fmla="val 12500"/>
              </a:avLst>
            </a:prstGeom>
            <a:solidFill>
              <a:srgbClr val="ffd47d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20894400">
              <a:off x="7038360" y="2183400"/>
              <a:ext cx="179892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n case of updates, it’s essential that information arrives fast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EE46-03D2-4B95-8C53-B76D3037D611}" type="slidenum">
              <a:t>15</a:t>
            </a:fld>
          </a:p>
        </p:txBody>
      </p:sp>
    </p:spTree>
  </p:cSld>
  <p:transition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Scope of the reporting obligation  (BR 3)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792144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PSC Directive doe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OT</a:t>
            </a: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 have a lower tonnage limit  (art 3 and art 24.2)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PSC Directive requires arrival and departure information from ports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and anchorages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PSC Directive excludes certain shiptypes such as naval vessels and fishing vessels. (art 3) </a:t>
            </a:r>
            <a:r>
              <a:rPr b="0" i="1" lang="en-GB" sz="1800" spc="-1" strike="noStrike" u="sng">
                <a:solidFill>
                  <a:srgbClr val="ff0000"/>
                </a:solidFill>
                <a:uFillTx/>
                <a:latin typeface="Verdana"/>
              </a:rPr>
              <a:t>THETIS will filter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957-FEB4-4A2E-9028-BC48AE1FB5E3}" type="slidenum">
              <a:t>16</a:t>
            </a:fld>
          </a:p>
        </p:txBody>
      </p:sp>
    </p:spTree>
  </p:cSld>
  <p:transition>
    <p:fade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Reporting obligation ship at anchorages (BR 4)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792144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PSC Directive requires arrival and departure information from ports 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and anchorages (art 2)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738360" indent="-28116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Anchorage defined as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lnSpc>
                <a:spcPct val="106000"/>
              </a:lnSpc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within the jurisdiction of a port”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lnSpc>
                <a:spcPct val="106000"/>
              </a:lnSpc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where as ship/port interface takes place”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FEC7-5444-4AF6-BB48-E48E34879F1A}" type="slidenum">
              <a:t>17</a:t>
            </a:fld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Linking notifications   (BR 5)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539640" y="414972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7560" y="3441600"/>
            <a:ext cx="500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ahoma"/>
              </a:rPr>
              <a:t>72 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8480" y="3641760"/>
            <a:ext cx="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00360" y="3441600"/>
            <a:ext cx="3985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ahoma"/>
              </a:rPr>
              <a:t>24 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98720" y="3641760"/>
            <a:ext cx="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87200" y="3441600"/>
            <a:ext cx="3682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ahoma"/>
              </a:rPr>
              <a:t>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71880" y="3641760"/>
            <a:ext cx="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53120" y="3441600"/>
            <a:ext cx="3772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ahoma"/>
              </a:rPr>
              <a:t>A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41760" y="3641760"/>
            <a:ext cx="0" cy="503280"/>
          </a:xfrm>
          <a:prstGeom prst="line">
            <a:avLst/>
          </a:prstGeom>
          <a:ln w="9360">
            <a:solidFill>
              <a:srgbClr val="00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 flipH="1">
            <a:off x="539640" y="2359080"/>
            <a:ext cx="1440000" cy="7826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124000" y="3446640"/>
            <a:ext cx="500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ahoma"/>
              </a:rPr>
              <a:t>72 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74920" y="3646440"/>
            <a:ext cx="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07160" y="3446640"/>
            <a:ext cx="3985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ahoma"/>
              </a:rPr>
              <a:t>24 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05160" y="3646440"/>
            <a:ext cx="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93640" y="3446640"/>
            <a:ext cx="3682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ahoma"/>
              </a:rPr>
              <a:t>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78320" y="3646440"/>
            <a:ext cx="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505840" y="3446640"/>
            <a:ext cx="3772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ahoma"/>
              </a:rPr>
              <a:t>A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694480" y="3646440"/>
            <a:ext cx="0" cy="503280"/>
          </a:xfrm>
          <a:prstGeom prst="line">
            <a:avLst/>
          </a:prstGeom>
          <a:ln w="9360">
            <a:solidFill>
              <a:srgbClr val="00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67120" y="3446640"/>
            <a:ext cx="500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ahoma"/>
              </a:rPr>
              <a:t>72 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18040" y="3646440"/>
            <a:ext cx="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49920" y="3446640"/>
            <a:ext cx="3985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ahoma"/>
              </a:rPr>
              <a:t>24 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48280" y="3646440"/>
            <a:ext cx="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36760" y="3446640"/>
            <a:ext cx="3682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ahoma"/>
              </a:rPr>
              <a:t>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21440" y="3646440"/>
            <a:ext cx="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05840" y="3446640"/>
            <a:ext cx="3772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ahoma"/>
              </a:rPr>
              <a:t>A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94480" y="3646440"/>
            <a:ext cx="0" cy="503280"/>
          </a:xfrm>
          <a:prstGeom prst="line">
            <a:avLst/>
          </a:prstGeom>
          <a:ln w="9360">
            <a:solidFill>
              <a:srgbClr val="00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73480" y="2492280"/>
            <a:ext cx="31798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 these updates or new call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3276720" y="278136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79880" y="278136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79480" y="4194000"/>
            <a:ext cx="357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1</a:t>
            </a:r>
            <a:r>
              <a:rPr b="0" lang="en-US" sz="1200" spc="-1" strike="noStrike" baseline="30000">
                <a:solidFill>
                  <a:srgbClr val="003399"/>
                </a:solidFill>
                <a:latin typeface="Tahoma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88080" y="4194000"/>
            <a:ext cx="392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ahoma"/>
              </a:rPr>
              <a:t>2</a:t>
            </a:r>
            <a:r>
              <a:rPr b="0" lang="en-US" sz="1200" spc="-1" strike="noStrike" baseline="30000">
                <a:solidFill>
                  <a:srgbClr val="cc3300"/>
                </a:solidFill>
                <a:latin typeface="Tahoma"/>
              </a:rPr>
              <a:t>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712960" y="4194000"/>
            <a:ext cx="357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1</a:t>
            </a:r>
            <a:r>
              <a:rPr b="0" lang="en-US" sz="1200" spc="-1" strike="noStrike" baseline="30000">
                <a:solidFill>
                  <a:srgbClr val="003399"/>
                </a:solidFill>
                <a:latin typeface="Tahoma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31560" y="4194000"/>
            <a:ext cx="374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ahoma"/>
              </a:rPr>
              <a:t>3</a:t>
            </a:r>
            <a:r>
              <a:rPr b="0" lang="en-US" sz="1200" spc="-1" strike="noStrike" baseline="30000">
                <a:solidFill>
                  <a:srgbClr val="009900"/>
                </a:solidFill>
                <a:latin typeface="Tahoma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787560" y="4194000"/>
            <a:ext cx="357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1</a:t>
            </a:r>
            <a:r>
              <a:rPr b="0" lang="en-US" sz="1200" spc="-1" strike="noStrike" baseline="30000">
                <a:solidFill>
                  <a:srgbClr val="003399"/>
                </a:solidFill>
                <a:latin typeface="Tahoma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16880" y="4194000"/>
            <a:ext cx="392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ahoma"/>
              </a:rPr>
              <a:t>2</a:t>
            </a:r>
            <a:r>
              <a:rPr b="0" lang="en-US" sz="1200" spc="-1" strike="noStrike" baseline="30000">
                <a:solidFill>
                  <a:srgbClr val="cc3300"/>
                </a:solidFill>
                <a:latin typeface="Tahoma"/>
              </a:rPr>
              <a:t>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59240" y="4194000"/>
            <a:ext cx="357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1</a:t>
            </a:r>
            <a:r>
              <a:rPr b="0" lang="en-US" sz="1200" spc="-1" strike="noStrike" baseline="30000">
                <a:solidFill>
                  <a:srgbClr val="003399"/>
                </a:solidFill>
                <a:latin typeface="Tahoma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55680" y="4194000"/>
            <a:ext cx="374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ahoma"/>
              </a:rPr>
              <a:t>3</a:t>
            </a:r>
            <a:r>
              <a:rPr b="0" lang="en-US" sz="1200" spc="-1" strike="noStrike" baseline="30000">
                <a:solidFill>
                  <a:srgbClr val="009900"/>
                </a:solidFill>
                <a:latin typeface="Tahoma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94720" y="4194000"/>
            <a:ext cx="392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ahoma"/>
              </a:rPr>
              <a:t>2</a:t>
            </a:r>
            <a:r>
              <a:rPr b="0" lang="en-US" sz="1200" spc="-1" strike="noStrike" baseline="30000">
                <a:solidFill>
                  <a:srgbClr val="cc3300"/>
                </a:solidFill>
                <a:latin typeface="Tahoma"/>
              </a:rPr>
              <a:t>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12320" y="4194000"/>
            <a:ext cx="392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ahoma"/>
              </a:rPr>
              <a:t>2</a:t>
            </a:r>
            <a:r>
              <a:rPr b="0" lang="en-US" sz="1200" spc="-1" strike="noStrike" baseline="30000">
                <a:solidFill>
                  <a:srgbClr val="cc3300"/>
                </a:solidFill>
                <a:latin typeface="Tahoma"/>
              </a:rPr>
              <a:t>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31720" y="4194000"/>
            <a:ext cx="374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ahoma"/>
              </a:rPr>
              <a:t>3</a:t>
            </a:r>
            <a:r>
              <a:rPr b="0" lang="en-US" sz="1200" spc="-1" strike="noStrike" baseline="30000">
                <a:solidFill>
                  <a:srgbClr val="009900"/>
                </a:solidFill>
                <a:latin typeface="Tahoma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05120" y="4194000"/>
            <a:ext cx="374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ahoma"/>
              </a:rPr>
              <a:t>3</a:t>
            </a:r>
            <a:r>
              <a:rPr b="0" lang="en-US" sz="1200" spc="-1" strike="noStrike" baseline="30000">
                <a:solidFill>
                  <a:srgbClr val="009900"/>
                </a:solidFill>
                <a:latin typeface="Tahoma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42920" y="5229360"/>
            <a:ext cx="75614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Without link between messag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- No total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- No control and no added value of 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638-F3C0-491C-94D6-1C45358FD9F5}" type="slidenum">
              <a:t>18</a:t>
            </a:fld>
          </a:p>
        </p:txBody>
      </p:sp>
    </p:spTree>
  </p:cSld>
  <p:transition>
    <p:fad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5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500"/>
                            </p:stCondLst>
                            <p:childTnLst>
                              <p:par>
                                <p:cTn id="8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500"/>
                            </p:stCondLst>
                            <p:childTnLst>
                              <p:par>
                                <p:cTn id="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000"/>
                            </p:stCondLst>
                            <p:childTnLst>
                              <p:par>
                                <p:cTn id="8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4500"/>
                            </p:stCondLst>
                            <p:childTnLst>
                              <p:par>
                                <p:cTn id="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5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6500"/>
                            </p:stCondLst>
                            <p:childTnLst>
                              <p:par>
                                <p:cTn id="8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7000"/>
                            </p:stCondLst>
                            <p:childTnLst>
                              <p:par>
                                <p:cTn id="8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7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9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1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892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895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89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901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0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91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5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91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8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919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92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Use of notified data (BR 6)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792144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PSC Directive does not exclude that data collected via SSN is used otherwise by MS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738360" indent="-28116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Cross fertilization between Community services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AB9-194F-4776-BFCA-E0A60EC56BDB}" type="slidenum">
              <a:t>19</a:t>
            </a:fld>
          </a:p>
        </p:txBody>
      </p:sp>
    </p:spTree>
  </p:cSld>
  <p:transition>
    <p:fade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0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Recapitulation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778040"/>
            <a:ext cx="77677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25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PSC Directive 2009/16 is 1 of the 3</a:t>
            </a:r>
            <a:r>
              <a:rPr b="0" lang="en-US" sz="1800" spc="-1" strike="noStrike" baseline="30000">
                <a:solidFill>
                  <a:srgbClr val="003366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Maritime Safety Package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25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Published in OJ 28 May 2009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25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Implementation date 01 January 2011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D8F-CB8A-47DD-BE26-61423A113139}" type="slidenum">
              <a:t>2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Format of notifications (BR 7)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792144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PSC Directive refers to formats and procedures as used in SSN in art 9 and 24.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738360" indent="-28116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SSN technical requirements and structure to be followed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C4F-DF63-4D2B-B8BC-F866B6122CF6}" type="slidenum">
              <a:t>20</a:t>
            </a:fld>
          </a:p>
        </p:txBody>
      </p:sp>
    </p:spTree>
  </p:cSld>
  <p:transition>
    <p:fade/>
  </p:transition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Information in notifications (BR 8)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792144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PSC Directive requires additionally: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738360" indent="-28116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Tanker hull configuration to be reported by the master</a:t>
            </a:r>
            <a:br>
              <a:rPr sz="1800"/>
            </a:b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(annex III)</a:t>
            </a:r>
            <a:br>
              <a:rPr sz="1800"/>
            </a:b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738360" indent="-281160">
              <a:lnSpc>
                <a:spcPct val="10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Ship’s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flag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 for updating the Risk Profile, the key element of targeting ships for PSC  (art 10.1)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661-E4E8-4720-B671-4E9874AD5F50}" type="slidenum">
              <a:t>21</a:t>
            </a:fld>
          </a:p>
        </p:txBody>
      </p:sp>
    </p:spTree>
  </p:cSld>
  <p:transition>
    <p:fade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Recapitulation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778040"/>
            <a:ext cx="77677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25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SSN 10 asked for prioritization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25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Business Rules (BR) defined and endorsed by Paris MoU Advisory Board in February 2009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25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BR presented to intersessional SSN technical working groups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256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BR presented and endorsed by PSC Committee (27 MS) in May 2009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97F-DF73-4AAE-B512-019527A8D9E2}" type="slidenum">
              <a:t>3</a:t>
            </a:fld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2200" y="4076640"/>
            <a:ext cx="844560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4238" t="0" r="2566" b="0"/>
          <a:stretch/>
        </p:blipFill>
        <p:spPr>
          <a:xfrm>
            <a:off x="826920" y="2077920"/>
            <a:ext cx="7920360" cy="3727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Paris MoU Members States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916680" y="1392120"/>
            <a:ext cx="1584360" cy="524520"/>
            <a:chOff x="6916680" y="1392120"/>
            <a:chExt cx="1584360" cy="524520"/>
          </a:xfrm>
        </p:grpSpPr>
        <p:sp>
          <p:nvSpPr>
            <p:cNvPr id="61" name=""/>
            <p:cNvSpPr/>
            <p:nvPr/>
          </p:nvSpPr>
          <p:spPr>
            <a:xfrm>
              <a:off x="7038720" y="1392120"/>
              <a:ext cx="1462320" cy="5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IE" sz="1200" spc="-1" strike="noStrike">
                  <a:solidFill>
                    <a:srgbClr val="808080"/>
                  </a:solidFill>
                  <a:latin typeface="Tahoma"/>
                </a:rPr>
                <a:t>EU Cou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IE" sz="1200" spc="-1" strike="noStrike">
                  <a:solidFill>
                    <a:srgbClr val="808080"/>
                  </a:solidFill>
                  <a:latin typeface="Tahoma"/>
                </a:rPr>
                <a:t>Non-EU Cou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16680" y="1482480"/>
              <a:ext cx="144360" cy="1443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19920" y="1703160"/>
              <a:ext cx="144360" cy="144360"/>
            </a:xfrm>
            <a:prstGeom prst="rect">
              <a:avLst/>
            </a:prstGeom>
            <a:solidFill>
              <a:srgbClr val="cb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24000" y="3068640"/>
            <a:ext cx="8451720" cy="3313080"/>
            <a:chOff x="324000" y="3068640"/>
            <a:chExt cx="8451720" cy="3313080"/>
          </a:xfrm>
        </p:grpSpPr>
        <p:sp>
          <p:nvSpPr>
            <p:cNvPr id="65" name=""/>
            <p:cNvSpPr/>
            <p:nvPr/>
          </p:nvSpPr>
          <p:spPr>
            <a:xfrm>
              <a:off x="330120" y="3887640"/>
              <a:ext cx="8445600" cy="249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4000" y="3068640"/>
              <a:ext cx="8448480" cy="863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109520" y="4449600"/>
            <a:ext cx="1657440" cy="1657440"/>
          </a:xfrm>
          <a:prstGeom prst="ellipse">
            <a:avLst/>
          </a:prstGeom>
          <a:solidFill>
            <a:srgbClr val="cb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002040" y="4211640"/>
            <a:ext cx="577800" cy="361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063960" y="5584680"/>
            <a:ext cx="515880" cy="339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1923480" y="4594320"/>
            <a:ext cx="1655640" cy="576000"/>
          </a:xfrm>
          <a:custGeom>
            <a:avLst/>
            <a:gdLst/>
            <a:ahLst/>
            <a:rect l="l" t="t" r="r" b="b"/>
            <a:pathLst>
              <a:path w="1043" h="816">
                <a:moveTo>
                  <a:pt x="0" y="0"/>
                </a:moveTo>
                <a:lnTo>
                  <a:pt x="408" y="0"/>
                </a:lnTo>
                <a:lnTo>
                  <a:pt x="1043" y="816"/>
                </a:lnTo>
              </a:path>
            </a:pathLst>
          </a:custGeom>
          <a:noFill/>
          <a:ln w="28440">
            <a:solidFill>
              <a:srgbClr val="cb6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15880" y="4756320"/>
            <a:ext cx="1044720" cy="104436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923480" y="5385600"/>
            <a:ext cx="1655640" cy="576360"/>
          </a:xfrm>
          <a:custGeom>
            <a:avLst/>
            <a:gdLst/>
            <a:ahLst/>
            <a:rect l="l" t="t" r="r" b="b"/>
            <a:pathLst>
              <a:path w="1043" h="816">
                <a:moveTo>
                  <a:pt x="0" y="0"/>
                </a:moveTo>
                <a:lnTo>
                  <a:pt x="408" y="0"/>
                </a:lnTo>
                <a:lnTo>
                  <a:pt x="1043" y="816"/>
                </a:lnTo>
              </a:path>
            </a:pathLst>
          </a:custGeom>
          <a:noFill/>
          <a:ln w="284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39840" y="5049720"/>
            <a:ext cx="874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T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243480" y="5567400"/>
            <a:ext cx="952560" cy="466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243480" y="4282920"/>
            <a:ext cx="952560" cy="466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7596360" y="4954680"/>
            <a:ext cx="647640" cy="398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3933720" y="4162320"/>
            <a:ext cx="452520" cy="5050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981600" y="5243400"/>
            <a:ext cx="353880" cy="1114560"/>
            <a:chOff x="3981600" y="5243400"/>
            <a:chExt cx="353880" cy="1114560"/>
          </a:xfrm>
        </p:grpSpPr>
        <p:pic>
          <p:nvPicPr>
            <p:cNvPr id="79" name="" descr=""/>
            <p:cNvPicPr/>
            <p:nvPr/>
          </p:nvPicPr>
          <p:blipFill>
            <a:blip r:embed="rId9"/>
            <a:srcRect l="64088" t="14666" r="13102" b="5308"/>
            <a:stretch/>
          </p:blipFill>
          <p:spPr>
            <a:xfrm>
              <a:off x="3981600" y="5243400"/>
              <a:ext cx="353880" cy="49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0"/>
            <a:srcRect l="64088" t="14666" r="13102" b="5308"/>
            <a:stretch/>
          </p:blipFill>
          <p:spPr>
            <a:xfrm>
              <a:off x="3981600" y="5859360"/>
              <a:ext cx="353880" cy="49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4342680" y="4199040"/>
            <a:ext cx="15386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IR</a:t>
            </a:r>
            <a:br>
              <a:rPr sz="1600"/>
            </a:b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N</a:t>
            </a:r>
            <a:r>
              <a:rPr b="0" lang="en-US" sz="900" spc="-1" strike="noStrike">
                <a:solidFill>
                  <a:srgbClr val="808080"/>
                </a:solidFill>
                <a:latin typeface="Tahoma"/>
              </a:rPr>
              <a:t>ew</a:t>
            </a: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Inspection</a:t>
            </a: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n-US" sz="900" spc="-1" strike="noStrike">
                <a:solidFill>
                  <a:srgbClr val="808080"/>
                </a:solidFill>
                <a:latin typeface="Tahoma"/>
              </a:rPr>
              <a:t>Regi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14600" y="5151600"/>
            <a:ext cx="1748880" cy="12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8000"/>
              </a:lnSpc>
              <a:spcAft>
                <a:spcPts val="4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rective on P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rective on Rop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51280" y="3933720"/>
            <a:ext cx="2217240" cy="1855800"/>
            <a:chOff x="3851280" y="3933720"/>
            <a:chExt cx="2217240" cy="1855800"/>
          </a:xfrm>
        </p:grpSpPr>
        <p:sp>
          <p:nvSpPr>
            <p:cNvPr id="84" name=""/>
            <p:cNvSpPr/>
            <p:nvPr/>
          </p:nvSpPr>
          <p:spPr>
            <a:xfrm>
              <a:off x="3851280" y="4090680"/>
              <a:ext cx="2092320" cy="1698840"/>
            </a:xfrm>
            <a:prstGeom prst="rect">
              <a:avLst/>
            </a:prstGeom>
            <a:noFill/>
            <a:ln w="9360">
              <a:solidFill>
                <a:srgbClr val="cb65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29920" y="3933720"/>
              <a:ext cx="10386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800" spc="-1" strike="noStrike">
                  <a:solidFill>
                    <a:srgbClr val="cb6500"/>
                  </a:solidFill>
                  <a:latin typeface="Tahoma"/>
                </a:rPr>
                <a:t>Port State Contr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920-35B0-4DF7-A5A2-688C415D3D4F}" type="slidenum">
              <a:t>4</a:t>
            </a:fld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354400" y="2167560"/>
            <a:ext cx="3828960" cy="2115360"/>
            <a:chOff x="2354400" y="2167560"/>
            <a:chExt cx="3828960" cy="2115360"/>
          </a:xfrm>
        </p:grpSpPr>
        <p:sp>
          <p:nvSpPr>
            <p:cNvPr id="87" name=""/>
            <p:cNvSpPr/>
            <p:nvPr/>
          </p:nvSpPr>
          <p:spPr>
            <a:xfrm>
              <a:off x="2354400" y="2205000"/>
              <a:ext cx="3828960" cy="2077920"/>
            </a:xfrm>
            <a:prstGeom prst="rect">
              <a:avLst/>
            </a:prstGeom>
            <a:solidFill>
              <a:srgbClr val="8f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2054880" y="2517840"/>
              <a:ext cx="915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Tahoma"/>
                </a:rPr>
                <a:t>Entry in For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996920" y="4302000"/>
            <a:ext cx="4179960" cy="1295640"/>
            <a:chOff x="1996920" y="4302000"/>
            <a:chExt cx="4179960" cy="1295640"/>
          </a:xfrm>
        </p:grpSpPr>
        <p:sp>
          <p:nvSpPr>
            <p:cNvPr id="90" name=""/>
            <p:cNvSpPr/>
            <p:nvPr/>
          </p:nvSpPr>
          <p:spPr>
            <a:xfrm>
              <a:off x="1996920" y="4302000"/>
              <a:ext cx="4179960" cy="129564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0e0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19600" y="5016600"/>
              <a:ext cx="41126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Tahoma"/>
                </a:rPr>
                <a:t>Preparation and Adoption of measures for the implementation of the NI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176880" y="4292280"/>
            <a:ext cx="2119320" cy="1380240"/>
            <a:chOff x="6176880" y="4292280"/>
            <a:chExt cx="2119320" cy="1380240"/>
          </a:xfrm>
        </p:grpSpPr>
        <p:grpSp>
          <p:nvGrpSpPr>
            <p:cNvPr id="93" name=""/>
            <p:cNvGrpSpPr/>
            <p:nvPr/>
          </p:nvGrpSpPr>
          <p:grpSpPr>
            <a:xfrm>
              <a:off x="8236080" y="4292280"/>
              <a:ext cx="60120" cy="1305000"/>
              <a:chOff x="8236080" y="4292280"/>
              <a:chExt cx="60120" cy="1305000"/>
            </a:xfrm>
          </p:grpSpPr>
          <p:sp>
            <p:nvSpPr>
              <p:cNvPr id="94" name=""/>
              <p:cNvSpPr/>
              <p:nvPr/>
            </p:nvSpPr>
            <p:spPr>
              <a:xfrm flipV="1">
                <a:off x="8236080" y="4292280"/>
                <a:ext cx="0" cy="130500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8296200" y="4292280"/>
                <a:ext cx="0" cy="13050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176880" y="4302000"/>
              <a:ext cx="2014560" cy="1295640"/>
            </a:xfrm>
            <a:prstGeom prst="rect">
              <a:avLst/>
            </a:pr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200000">
              <a:off x="5783400" y="5043600"/>
              <a:ext cx="10432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Tahoma"/>
                </a:rPr>
                <a:t>Implement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151680" y="2149560"/>
            <a:ext cx="2146320" cy="2151000"/>
            <a:chOff x="6151680" y="2149560"/>
            <a:chExt cx="2146320" cy="2151000"/>
          </a:xfrm>
        </p:grpSpPr>
        <p:grpSp>
          <p:nvGrpSpPr>
            <p:cNvPr id="99" name=""/>
            <p:cNvGrpSpPr/>
            <p:nvPr/>
          </p:nvGrpSpPr>
          <p:grpSpPr>
            <a:xfrm>
              <a:off x="6151680" y="2149560"/>
              <a:ext cx="2039760" cy="2151000"/>
              <a:chOff x="6151680" y="2149560"/>
              <a:chExt cx="2039760" cy="2151000"/>
            </a:xfrm>
          </p:grpSpPr>
          <p:sp>
            <p:nvSpPr>
              <p:cNvPr id="100" name=""/>
              <p:cNvSpPr/>
              <p:nvPr/>
            </p:nvSpPr>
            <p:spPr>
              <a:xfrm>
                <a:off x="6173640" y="2205000"/>
                <a:ext cx="2017800" cy="2095560"/>
              </a:xfrm>
              <a:prstGeom prst="rect">
                <a:avLst/>
              </a:prstGeom>
              <a:solidFill>
                <a:srgbClr val="71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200000">
                <a:off x="5737320" y="2563920"/>
                <a:ext cx="1043280" cy="2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ahoma"/>
                  </a:rPr>
                  <a:t>Implement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8237520" y="2203200"/>
              <a:ext cx="60480" cy="2093400"/>
              <a:chOff x="8237520" y="2203200"/>
              <a:chExt cx="60480" cy="209340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8237520" y="2203200"/>
                <a:ext cx="0" cy="2093400"/>
              </a:xfrm>
              <a:prstGeom prst="line">
                <a:avLst/>
              </a:prstGeom>
              <a:ln w="57240">
                <a:solidFill>
                  <a:srgbClr val="71a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8298000" y="2203200"/>
                <a:ext cx="0" cy="2093400"/>
              </a:xfrm>
              <a:prstGeom prst="line">
                <a:avLst/>
              </a:prstGeom>
              <a:ln w="28440">
                <a:solidFill>
                  <a:srgbClr val="71a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1996920" y="4297320"/>
            <a:ext cx="6382080" cy="1303560"/>
          </a:xfrm>
          <a:custGeom>
            <a:avLst/>
            <a:gdLst/>
            <a:ahLst/>
            <a:rect l="l" t="t" r="r" b="b"/>
            <a:pathLst>
              <a:path w="3039" h="499">
                <a:moveTo>
                  <a:pt x="0" y="0"/>
                </a:moveTo>
                <a:lnTo>
                  <a:pt x="0" y="499"/>
                </a:lnTo>
                <a:lnTo>
                  <a:pt x="3039" y="499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PSC Directive Transition Period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240920" y="4343400"/>
            <a:ext cx="4672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Tahoma"/>
              </a:rPr>
              <a:t>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96760" y="4343400"/>
            <a:ext cx="4672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Tahoma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7280" y="4343400"/>
            <a:ext cx="4672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2290680"/>
            <a:ext cx="17244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PSC Recast Dir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4360" y="4762440"/>
            <a:ext cx="1150920" cy="536760"/>
            <a:chOff x="684360" y="4762440"/>
            <a:chExt cx="1150920" cy="536760"/>
          </a:xfrm>
        </p:grpSpPr>
        <p:sp>
          <p:nvSpPr>
            <p:cNvPr id="112" name=""/>
            <p:cNvSpPr/>
            <p:nvPr/>
          </p:nvSpPr>
          <p:spPr>
            <a:xfrm>
              <a:off x="684360" y="4775040"/>
              <a:ext cx="1150920" cy="52416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83" y="0"/>
                  </a:lnTo>
                  <a:lnTo>
                    <a:pt x="21600" y="10800"/>
                  </a:lnTo>
                  <a:lnTo>
                    <a:pt x="1948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4160" y="4762440"/>
              <a:ext cx="1005120" cy="5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ahoma"/>
                </a:rPr>
                <a:t>Comit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PT" sz="1200" spc="-1" strike="noStrike">
                  <a:solidFill>
                    <a:srgbClr val="003366"/>
                  </a:solidFill>
                  <a:latin typeface="Tahoma"/>
                </a:rPr>
                <a:t>Proced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981080" y="2165400"/>
            <a:ext cx="216000" cy="2117520"/>
            <a:chOff x="1981080" y="2165400"/>
            <a:chExt cx="216000" cy="2117520"/>
          </a:xfrm>
        </p:grpSpPr>
        <p:sp>
          <p:nvSpPr>
            <p:cNvPr id="115" name=""/>
            <p:cNvSpPr/>
            <p:nvPr/>
          </p:nvSpPr>
          <p:spPr>
            <a:xfrm>
              <a:off x="2000160" y="2205000"/>
              <a:ext cx="196920" cy="2077920"/>
            </a:xfrm>
            <a:prstGeom prst="rect">
              <a:avLst/>
            </a:prstGeom>
            <a:solidFill>
              <a:srgbClr val="d5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1676520" y="2469960"/>
              <a:ext cx="823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Tahoma"/>
                </a:rPr>
                <a:t>EP Approv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85920" y="2165400"/>
            <a:ext cx="214560" cy="2117520"/>
            <a:chOff x="2185920" y="2165400"/>
            <a:chExt cx="214560" cy="2117520"/>
          </a:xfrm>
        </p:grpSpPr>
        <p:sp>
          <p:nvSpPr>
            <p:cNvPr id="118" name=""/>
            <p:cNvSpPr/>
            <p:nvPr/>
          </p:nvSpPr>
          <p:spPr>
            <a:xfrm>
              <a:off x="2193840" y="2205000"/>
              <a:ext cx="196920" cy="2077920"/>
            </a:xfrm>
            <a:prstGeom prst="rect">
              <a:avLst/>
            </a:prstGeom>
            <a:solidFill>
              <a:srgbClr val="b9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1830240" y="2521080"/>
              <a:ext cx="9259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Tahoma"/>
                </a:rPr>
                <a:t>OJ Publ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14360" y="3271680"/>
            <a:ext cx="5770440" cy="1020960"/>
            <a:chOff x="414360" y="3271680"/>
            <a:chExt cx="5770440" cy="1020960"/>
          </a:xfrm>
        </p:grpSpPr>
        <p:grpSp>
          <p:nvGrpSpPr>
            <p:cNvPr id="121" name=""/>
            <p:cNvGrpSpPr/>
            <p:nvPr/>
          </p:nvGrpSpPr>
          <p:grpSpPr>
            <a:xfrm>
              <a:off x="452520" y="3271680"/>
              <a:ext cx="60120" cy="1019160"/>
              <a:chOff x="452520" y="3271680"/>
              <a:chExt cx="60120" cy="1019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12640" y="3271680"/>
                <a:ext cx="0" cy="1019160"/>
              </a:xfrm>
              <a:prstGeom prst="line">
                <a:avLst/>
              </a:prstGeom>
              <a:ln w="572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2520" y="3271680"/>
                <a:ext cx="0" cy="1019160"/>
              </a:xfrm>
              <a:prstGeom prst="line">
                <a:avLst/>
              </a:prstGeom>
              <a:ln w="284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554040" y="3271680"/>
              <a:ext cx="5629320" cy="10112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360" y="3271680"/>
              <a:ext cx="5770440" cy="1020960"/>
            </a:xfrm>
            <a:custGeom>
              <a:avLst/>
              <a:gdLst/>
              <a:ahLst/>
              <a:rect l="l" t="t" r="r" b="b"/>
              <a:pathLst>
                <a:path w="3538" h="454">
                  <a:moveTo>
                    <a:pt x="3538" y="454"/>
                  </a:moveTo>
                  <a:lnTo>
                    <a:pt x="3538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000160" y="2205000"/>
            <a:ext cx="6388200" cy="1652760"/>
          </a:xfrm>
          <a:custGeom>
            <a:avLst/>
            <a:gdLst/>
            <a:ahLst/>
            <a:rect l="l" t="t" r="r" b="b"/>
            <a:pathLst>
              <a:path w="3175" h="817">
                <a:moveTo>
                  <a:pt x="0" y="817"/>
                </a:moveTo>
                <a:lnTo>
                  <a:pt x="0" y="0"/>
                </a:lnTo>
                <a:lnTo>
                  <a:pt x="3175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14360" y="4221000"/>
            <a:ext cx="7969320" cy="152640"/>
            <a:chOff x="414360" y="4221000"/>
            <a:chExt cx="7969320" cy="152640"/>
          </a:xfrm>
        </p:grpSpPr>
        <p:sp>
          <p:nvSpPr>
            <p:cNvPr id="128" name=""/>
            <p:cNvSpPr/>
            <p:nvPr/>
          </p:nvSpPr>
          <p:spPr>
            <a:xfrm>
              <a:off x="1477800" y="4221000"/>
              <a:ext cx="0" cy="1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30760" y="422928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673280" y="4257720"/>
              <a:ext cx="4314600" cy="69840"/>
              <a:chOff x="1673280" y="4257720"/>
              <a:chExt cx="4314600" cy="6984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167328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186984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206496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226188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45736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265392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284940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304632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324144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343836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363348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402732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422244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441936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461448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481140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500688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520344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539892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559584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579096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5987880" y="42577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6183360" y="4229280"/>
              <a:ext cx="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4360" y="4292640"/>
              <a:ext cx="796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833360" y="5599080"/>
            <a:ext cx="1323000" cy="509400"/>
            <a:chOff x="4833360" y="5599080"/>
            <a:chExt cx="1323000" cy="509400"/>
          </a:xfrm>
        </p:grpSpPr>
        <p:sp>
          <p:nvSpPr>
            <p:cNvPr id="156" name=""/>
            <p:cNvSpPr/>
            <p:nvPr/>
          </p:nvSpPr>
          <p:spPr>
            <a:xfrm>
              <a:off x="4879800" y="5599080"/>
              <a:ext cx="1276560" cy="497880"/>
            </a:xfrm>
            <a:custGeom>
              <a:avLst/>
              <a:gdLst/>
              <a:ahLst/>
              <a:rect l="l" t="t" r="r" b="b"/>
              <a:pathLst>
                <a:path w="1179" h="1270">
                  <a:moveTo>
                    <a:pt x="0" y="0"/>
                  </a:moveTo>
                  <a:lnTo>
                    <a:pt x="0" y="1270"/>
                  </a:lnTo>
                  <a:lnTo>
                    <a:pt x="1179" y="127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33360" y="5880600"/>
              <a:ext cx="124596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Tahoma"/>
                </a:rPr>
                <a:t>Paris MoU upd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189840" y="4292640"/>
            <a:ext cx="2206440" cy="1944720"/>
            <a:chOff x="6189840" y="4292640"/>
            <a:chExt cx="2206440" cy="1944720"/>
          </a:xfrm>
        </p:grpSpPr>
        <p:sp>
          <p:nvSpPr>
            <p:cNvPr id="159" name=""/>
            <p:cNvSpPr/>
            <p:nvPr/>
          </p:nvSpPr>
          <p:spPr>
            <a:xfrm>
              <a:off x="6189840" y="4292640"/>
              <a:ext cx="2206440" cy="1944720"/>
            </a:xfrm>
            <a:custGeom>
              <a:avLst/>
              <a:gdLst/>
              <a:ahLst/>
              <a:rect l="l" t="t" r="r" b="b"/>
              <a:pathLst>
                <a:path w="1179" h="1270">
                  <a:moveTo>
                    <a:pt x="0" y="0"/>
                  </a:moveTo>
                  <a:lnTo>
                    <a:pt x="0" y="1270"/>
                  </a:lnTo>
                  <a:lnTo>
                    <a:pt x="1179" y="127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7920" y="5961240"/>
              <a:ext cx="1570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Tahoma"/>
                </a:rPr>
                <a:t>Paris MoU in fo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09080" y="5602320"/>
            <a:ext cx="11422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PT" sz="800" spc="-1" strike="noStrike">
                <a:solidFill>
                  <a:srgbClr val="000000"/>
                </a:solidFill>
                <a:latin typeface="Tahoma"/>
              </a:rPr>
              <a:t>Indicative time fr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721880" y="3966120"/>
            <a:ext cx="520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Mar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8200" y="3316320"/>
            <a:ext cx="1878480" cy="254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PSC Directive 95/21/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A58-20AC-46DB-9D02-F6BE705D3F71}" type="slidenum">
              <a:t>5</a:t>
            </a:fld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50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PSC in the new Directive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2276280"/>
            <a:ext cx="776772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6000"/>
              </a:lnSpc>
              <a:spcBef>
                <a:spcPts val="499"/>
              </a:spcBef>
              <a:spcAft>
                <a:spcPts val="6500"/>
              </a:spcAft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2b71"/>
                </a:solidFill>
                <a:latin typeface="Verdana"/>
              </a:rPr>
              <a:t>2 main elements</a:t>
            </a:r>
            <a:r>
              <a:rPr b="0" lang="en-US" sz="2600" spc="-1" strike="noStrike">
                <a:solidFill>
                  <a:srgbClr val="002b71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2b71"/>
              </a:solidFill>
              <a:latin typeface="Verdana"/>
            </a:endParaRPr>
          </a:p>
          <a:p>
            <a:pPr lvl="1" marL="738360" indent="-281160">
              <a:lnSpc>
                <a:spcPct val="106000"/>
              </a:lnSpc>
              <a:spcBef>
                <a:spcPts val="499"/>
              </a:spcBef>
              <a:spcAft>
                <a:spcPts val="4501"/>
              </a:spcAft>
              <a:buClr>
                <a:srgbClr val="002b71"/>
              </a:buClr>
              <a:buFont typeface="Verdan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800" spc="-1" strike="noStrike">
                <a:solidFill>
                  <a:srgbClr val="3399ff"/>
                </a:solidFill>
                <a:latin typeface="Verdana"/>
              </a:rPr>
              <a:t>PSC inspection recording </a:t>
            </a:r>
            <a:r>
              <a:rPr b="0" i="1" lang="en-US" sz="1800" spc="-1" strike="noStrike">
                <a:solidFill>
                  <a:srgbClr val="3399ff"/>
                </a:solidFill>
                <a:latin typeface="Wingdings"/>
                <a:ea typeface="Wingdings"/>
              </a:rPr>
              <a:t></a:t>
            </a:r>
            <a:r>
              <a:rPr b="0" i="1" lang="en-US" sz="1800" spc="-1" strike="noStrike">
                <a:solidFill>
                  <a:srgbClr val="3399ff"/>
                </a:solidFill>
                <a:latin typeface="Verdana"/>
              </a:rPr>
              <a:t> THETIS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738360" indent="-281160">
              <a:lnSpc>
                <a:spcPct val="106000"/>
              </a:lnSpc>
              <a:spcBef>
                <a:spcPts val="499"/>
              </a:spcBef>
              <a:spcAft>
                <a:spcPts val="4501"/>
              </a:spcAft>
              <a:buClr>
                <a:srgbClr val="002b71"/>
              </a:buClr>
              <a:buFont typeface="Verdan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800" spc="-1" strike="noStrike">
                <a:solidFill>
                  <a:srgbClr val="3399ff"/>
                </a:solidFill>
                <a:latin typeface="Verdana"/>
              </a:rPr>
              <a:t>Port call reporting (notifications) </a:t>
            </a:r>
            <a:r>
              <a:rPr b="0" i="1" lang="en-US" sz="1800" spc="-1" strike="noStrike">
                <a:solidFill>
                  <a:srgbClr val="3399ff"/>
                </a:solidFill>
                <a:latin typeface="Wingdings"/>
                <a:ea typeface="Wingdings"/>
              </a:rPr>
              <a:t></a:t>
            </a:r>
            <a:r>
              <a:rPr b="0" i="1" lang="en-US" sz="1800" spc="-1" strike="noStrike">
                <a:solidFill>
                  <a:srgbClr val="3399ff"/>
                </a:solidFill>
                <a:latin typeface="Verdana"/>
              </a:rPr>
              <a:t> SSN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8040" indent="0">
              <a:lnSpc>
                <a:spcPct val="106000"/>
              </a:lnSpc>
              <a:spcBef>
                <a:spcPts val="499"/>
              </a:spcBef>
              <a:spcAft>
                <a:spcPts val="45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E35-CAFA-47CB-BBF6-4193055BC4D2}" type="slidenum">
              <a:t>6</a:t>
            </a:fld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200" spc="-1" strike="noStrike">
                <a:solidFill>
                  <a:srgbClr val="0078c7"/>
                </a:solidFill>
                <a:latin typeface="Verdana"/>
              </a:rPr>
              <a:t>PSC and SSN</a:t>
            </a:r>
            <a:r>
              <a:rPr b="1" lang="en-GB" sz="2200" spc="-1" strike="noStrike">
                <a:solidFill>
                  <a:srgbClr val="0078c7"/>
                </a:solidFill>
                <a:latin typeface="Verdana"/>
              </a:rPr>
              <a:t>	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920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16000"/>
              </a:lnSpc>
              <a:spcBef>
                <a:spcPts val="499"/>
              </a:spcBef>
              <a:spcAft>
                <a:spcPts val="1500"/>
              </a:spcAft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Both have their basis in EU legislation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116000"/>
              </a:lnSpc>
              <a:spcBef>
                <a:spcPts val="499"/>
              </a:spcBef>
              <a:spcAft>
                <a:spcPts val="1500"/>
              </a:spcAft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Both are systems in support of MS daily operation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116000"/>
              </a:lnSpc>
              <a:spcBef>
                <a:spcPts val="499"/>
              </a:spcBef>
              <a:spcAft>
                <a:spcPts val="1500"/>
              </a:spcAft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Information allows MS to comply with obligation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116000"/>
              </a:lnSpc>
              <a:spcBef>
                <a:spcPts val="499"/>
              </a:spcBef>
              <a:spcAft>
                <a:spcPts val="1199"/>
              </a:spcAft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PSC changes from national to regional commitments</a:t>
            </a:r>
            <a:br>
              <a:rPr sz="2000"/>
            </a:br>
            <a:r>
              <a:rPr b="0" lang="en-GB" sz="1600" spc="-1" strike="noStrike">
                <a:solidFill>
                  <a:srgbClr val="3399ff"/>
                </a:solidFill>
                <a:latin typeface="Verdana"/>
              </a:rPr>
              <a:t>SSN is the only system capable to support that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116000"/>
              </a:lnSpc>
              <a:spcBef>
                <a:spcPts val="499"/>
              </a:spcBef>
              <a:spcAft>
                <a:spcPts val="1199"/>
              </a:spcAft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PSC targets are less flexible</a:t>
            </a:r>
            <a:br>
              <a:rPr sz="2000"/>
            </a:br>
            <a:r>
              <a:rPr b="0" lang="en-GB" sz="1600" spc="-1" strike="noStrike">
                <a:solidFill>
                  <a:srgbClr val="3399ff"/>
                </a:solidFill>
                <a:latin typeface="Verdana"/>
              </a:rPr>
              <a:t>SSN is the only 24/7 source available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38040" indent="-338040">
              <a:lnSpc>
                <a:spcPct val="116000"/>
              </a:lnSpc>
              <a:spcBef>
                <a:spcPts val="499"/>
              </a:spcBef>
              <a:spcAft>
                <a:spcPts val="1500"/>
              </a:spcAft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Added value for Community through PSC information exchange SSN and vice versa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817-8D97-4BC9-B80D-7BFE29A6AA89}" type="slidenum">
              <a:t>7</a:t>
            </a:fld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866400" y="2220480"/>
            <a:ext cx="2127240" cy="2125440"/>
            <a:chOff x="3866400" y="2220480"/>
            <a:chExt cx="2127240" cy="2125440"/>
          </a:xfrm>
        </p:grpSpPr>
        <p:grpSp>
          <p:nvGrpSpPr>
            <p:cNvPr id="169" name=""/>
            <p:cNvGrpSpPr/>
            <p:nvPr/>
          </p:nvGrpSpPr>
          <p:grpSpPr>
            <a:xfrm>
              <a:off x="3866400" y="2220480"/>
              <a:ext cx="2127240" cy="2125440"/>
              <a:chOff x="3866400" y="2220480"/>
              <a:chExt cx="2127240" cy="2125440"/>
            </a:xfrm>
          </p:grpSpPr>
          <p:sp>
            <p:nvSpPr>
              <p:cNvPr id="170" name=""/>
              <p:cNvSpPr/>
              <p:nvPr/>
            </p:nvSpPr>
            <p:spPr>
              <a:xfrm rot="11298000">
                <a:off x="5153760" y="2750040"/>
                <a:ext cx="612720" cy="728280"/>
              </a:xfrm>
              <a:custGeom>
                <a:avLst/>
                <a:gdLst/>
                <a:ahLst/>
                <a:rect l="l" t="t" r="r" b="b"/>
                <a:pathLst>
                  <a:path w="446" h="530">
                    <a:moveTo>
                      <a:pt x="32" y="0"/>
                    </a:moveTo>
                    <a:lnTo>
                      <a:pt x="372" y="54"/>
                    </a:lnTo>
                    <a:lnTo>
                      <a:pt x="446" y="244"/>
                    </a:lnTo>
                    <a:lnTo>
                      <a:pt x="212" y="530"/>
                    </a:lnTo>
                    <a:lnTo>
                      <a:pt x="100" y="416"/>
                    </a:lnTo>
                    <a:lnTo>
                      <a:pt x="14" y="224"/>
                    </a:lnTo>
                    <a:lnTo>
                      <a:pt x="0" y="66"/>
                    </a:lnTo>
                    <a:lnTo>
                      <a:pt x="2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1298000">
                <a:off x="4122000" y="2436840"/>
                <a:ext cx="748440" cy="748440"/>
              </a:xfrm>
              <a:custGeom>
                <a:avLst/>
                <a:gdLst/>
                <a:ahLst/>
                <a:rect l="l" t="t" r="r" b="b"/>
                <a:pathLst>
                  <a:path w="545" h="545">
                    <a:moveTo>
                      <a:pt x="0" y="227"/>
                    </a:moveTo>
                    <a:lnTo>
                      <a:pt x="227" y="545"/>
                    </a:lnTo>
                    <a:lnTo>
                      <a:pt x="454" y="363"/>
                    </a:lnTo>
                    <a:lnTo>
                      <a:pt x="545" y="0"/>
                    </a:lnTo>
                    <a:lnTo>
                      <a:pt x="137" y="0"/>
                    </a:lnTo>
                    <a:lnTo>
                      <a:pt x="0" y="227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1298000">
                <a:off x="5061600" y="3326400"/>
                <a:ext cx="685440" cy="747360"/>
              </a:xfrm>
              <a:custGeom>
                <a:avLst/>
                <a:gdLst/>
                <a:ahLst/>
                <a:rect l="l" t="t" r="r" b="b"/>
                <a:pathLst>
                  <a:path w="499" h="544">
                    <a:moveTo>
                      <a:pt x="317" y="0"/>
                    </a:moveTo>
                    <a:lnTo>
                      <a:pt x="499" y="272"/>
                    </a:lnTo>
                    <a:lnTo>
                      <a:pt x="363" y="544"/>
                    </a:lnTo>
                    <a:lnTo>
                      <a:pt x="0" y="499"/>
                    </a:lnTo>
                    <a:lnTo>
                      <a:pt x="45" y="227"/>
                    </a:lnTo>
                    <a:lnTo>
                      <a:pt x="272" y="0"/>
                    </a:lnTo>
                    <a:lnTo>
                      <a:pt x="31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5300000">
                <a:off x="4059000" y="3112200"/>
                <a:ext cx="1184400" cy="935280"/>
              </a:xfrm>
              <a:custGeom>
                <a:avLst/>
                <a:gdLst/>
                <a:ahLst/>
                <a:rect l="l" t="t" r="r" b="b"/>
                <a:pathLst>
                  <a:path w="862" h="681">
                    <a:moveTo>
                      <a:pt x="45" y="681"/>
                    </a:moveTo>
                    <a:lnTo>
                      <a:pt x="317" y="635"/>
                    </a:lnTo>
                    <a:lnTo>
                      <a:pt x="317" y="499"/>
                    </a:lnTo>
                    <a:lnTo>
                      <a:pt x="363" y="409"/>
                    </a:lnTo>
                    <a:lnTo>
                      <a:pt x="453" y="363"/>
                    </a:lnTo>
                    <a:lnTo>
                      <a:pt x="589" y="318"/>
                    </a:lnTo>
                    <a:lnTo>
                      <a:pt x="771" y="363"/>
                    </a:lnTo>
                    <a:lnTo>
                      <a:pt x="862" y="91"/>
                    </a:lnTo>
                    <a:lnTo>
                      <a:pt x="726" y="46"/>
                    </a:lnTo>
                    <a:lnTo>
                      <a:pt x="499" y="0"/>
                    </a:lnTo>
                    <a:lnTo>
                      <a:pt x="317" y="91"/>
                    </a:lnTo>
                    <a:lnTo>
                      <a:pt x="181" y="227"/>
                    </a:lnTo>
                    <a:lnTo>
                      <a:pt x="45" y="409"/>
                    </a:lnTo>
                    <a:lnTo>
                      <a:pt x="0" y="590"/>
                    </a:lnTo>
                    <a:lnTo>
                      <a:pt x="45" y="681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5300000">
                <a:off x="4802040" y="2343240"/>
                <a:ext cx="623520" cy="872280"/>
              </a:xfrm>
              <a:custGeom>
                <a:avLst/>
                <a:gdLst/>
                <a:ahLst/>
                <a:rect l="l" t="t" r="r" b="b"/>
                <a:pathLst>
                  <a:path w="454" h="635">
                    <a:moveTo>
                      <a:pt x="0" y="363"/>
                    </a:moveTo>
                    <a:lnTo>
                      <a:pt x="91" y="635"/>
                    </a:lnTo>
                    <a:lnTo>
                      <a:pt x="272" y="545"/>
                    </a:lnTo>
                    <a:lnTo>
                      <a:pt x="408" y="363"/>
                    </a:lnTo>
                    <a:lnTo>
                      <a:pt x="454" y="136"/>
                    </a:lnTo>
                    <a:lnTo>
                      <a:pt x="454" y="0"/>
                    </a:lnTo>
                    <a:lnTo>
                      <a:pt x="272" y="46"/>
                    </a:lnTo>
                    <a:lnTo>
                      <a:pt x="182" y="46"/>
                    </a:lnTo>
                    <a:lnTo>
                      <a:pt x="136" y="272"/>
                    </a:lnTo>
                    <a:lnTo>
                      <a:pt x="46" y="318"/>
                    </a:lnTo>
                    <a:lnTo>
                      <a:pt x="0" y="363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1298000">
                <a:off x="4492800" y="2847960"/>
                <a:ext cx="872280" cy="872280"/>
              </a:xfrm>
              <a:prstGeom prst="ellipse">
                <a:avLst/>
              </a:prstGeom>
              <a:gradFill rotWithShape="0">
                <a:gsLst>
                  <a:gs pos="0">
                    <a:srgbClr val="cb6500"/>
                  </a:gs>
                  <a:gs pos="100000">
                    <a:srgbClr val="5e2e00"/>
                  </a:gs>
                </a:gsLst>
                <a:lin ang="94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1298000">
                <a:off x="3991680" y="2346120"/>
                <a:ext cx="1876320" cy="1874160"/>
              </a:xfrm>
              <a:prstGeom prst="donut">
                <a:avLst>
                  <a:gd name="adj" fmla="val 1105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26640" y="3125880"/>
              <a:ext cx="7797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MS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032880" y="3155760"/>
            <a:ext cx="2973960" cy="2975040"/>
            <a:chOff x="6032880" y="3155760"/>
            <a:chExt cx="2973960" cy="2975040"/>
          </a:xfrm>
        </p:grpSpPr>
        <p:grpSp>
          <p:nvGrpSpPr>
            <p:cNvPr id="179" name=""/>
            <p:cNvGrpSpPr/>
            <p:nvPr/>
          </p:nvGrpSpPr>
          <p:grpSpPr>
            <a:xfrm>
              <a:off x="6032880" y="3155760"/>
              <a:ext cx="2973960" cy="2975040"/>
              <a:chOff x="6032880" y="3155760"/>
              <a:chExt cx="2973960" cy="297504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6289200" y="3429720"/>
                <a:ext cx="2521440" cy="2376720"/>
                <a:chOff x="6289200" y="3429720"/>
                <a:chExt cx="2521440" cy="2376720"/>
              </a:xfrm>
            </p:grpSpPr>
            <p:sp>
              <p:nvSpPr>
                <p:cNvPr id="181" name=""/>
                <p:cNvSpPr/>
                <p:nvPr/>
              </p:nvSpPr>
              <p:spPr>
                <a:xfrm rot="18065400">
                  <a:off x="7783200" y="4500000"/>
                  <a:ext cx="676080" cy="609480"/>
                </a:xfrm>
                <a:custGeom>
                  <a:avLst/>
                  <a:gdLst/>
                  <a:ahLst/>
                  <a:rect l="l" t="t" r="r" b="b"/>
                  <a:pathLst>
                    <a:path w="426" h="384">
                      <a:moveTo>
                        <a:pt x="48" y="78"/>
                      </a:moveTo>
                      <a:lnTo>
                        <a:pt x="0" y="382"/>
                      </a:lnTo>
                      <a:lnTo>
                        <a:pt x="112" y="384"/>
                      </a:lnTo>
                      <a:lnTo>
                        <a:pt x="248" y="362"/>
                      </a:lnTo>
                      <a:lnTo>
                        <a:pt x="394" y="312"/>
                      </a:lnTo>
                      <a:lnTo>
                        <a:pt x="426" y="280"/>
                      </a:lnTo>
                      <a:lnTo>
                        <a:pt x="224" y="0"/>
                      </a:lnTo>
                      <a:lnTo>
                        <a:pt x="140" y="10"/>
                      </a:lnTo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8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8065400">
                  <a:off x="7108560" y="4865400"/>
                  <a:ext cx="707760" cy="841320"/>
                </a:xfrm>
                <a:custGeom>
                  <a:avLst/>
                  <a:gdLst/>
                  <a:ahLst/>
                  <a:rect l="l" t="t" r="r" b="b"/>
                  <a:pathLst>
                    <a:path w="446" h="530">
                      <a:moveTo>
                        <a:pt x="32" y="0"/>
                      </a:moveTo>
                      <a:lnTo>
                        <a:pt x="372" y="54"/>
                      </a:lnTo>
                      <a:lnTo>
                        <a:pt x="446" y="244"/>
                      </a:lnTo>
                      <a:lnTo>
                        <a:pt x="212" y="530"/>
                      </a:lnTo>
                      <a:lnTo>
                        <a:pt x="100" y="416"/>
                      </a:lnTo>
                      <a:lnTo>
                        <a:pt x="14" y="224"/>
                      </a:lnTo>
                      <a:lnTo>
                        <a:pt x="0" y="66"/>
                      </a:lnTo>
                      <a:lnTo>
                        <a:pt x="2" y="4"/>
                      </a:lnTo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8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18065400">
                  <a:off x="6562440" y="4250160"/>
                  <a:ext cx="660240" cy="542880"/>
                </a:xfrm>
                <a:custGeom>
                  <a:avLst/>
                  <a:gdLst/>
                  <a:ahLst/>
                  <a:rect l="l" t="t" r="r" b="b"/>
                  <a:pathLst>
                    <a:path w="416" h="342">
                      <a:moveTo>
                        <a:pt x="0" y="92"/>
                      </a:moveTo>
                      <a:lnTo>
                        <a:pt x="182" y="342"/>
                      </a:lnTo>
                      <a:lnTo>
                        <a:pt x="370" y="314"/>
                      </a:lnTo>
                      <a:lnTo>
                        <a:pt x="416" y="18"/>
                      </a:lnTo>
                      <a:lnTo>
                        <a:pt x="268" y="0"/>
                      </a:lnTo>
                      <a:lnTo>
                        <a:pt x="134" y="32"/>
                      </a:lnTo>
                      <a:lnTo>
                        <a:pt x="36" y="82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8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8065400">
                  <a:off x="7251480" y="3563640"/>
                  <a:ext cx="609120" cy="876600"/>
                </a:xfrm>
                <a:custGeom>
                  <a:avLst/>
                  <a:gdLst/>
                  <a:ahLst/>
                  <a:rect l="l" t="t" r="r" b="b"/>
                  <a:pathLst>
                    <a:path w="384" h="552">
                      <a:moveTo>
                        <a:pt x="0" y="242"/>
                      </a:moveTo>
                      <a:lnTo>
                        <a:pt x="198" y="0"/>
                      </a:lnTo>
                      <a:lnTo>
                        <a:pt x="280" y="118"/>
                      </a:lnTo>
                      <a:lnTo>
                        <a:pt x="338" y="270"/>
                      </a:lnTo>
                      <a:lnTo>
                        <a:pt x="384" y="482"/>
                      </a:lnTo>
                      <a:lnTo>
                        <a:pt x="364" y="552"/>
                      </a:lnTo>
                      <a:lnTo>
                        <a:pt x="100" y="512"/>
                      </a:lnTo>
                      <a:lnTo>
                        <a:pt x="20" y="340"/>
                      </a:lnTo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8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18065400">
                  <a:off x="7552080" y="4881240"/>
                  <a:ext cx="647280" cy="719280"/>
                </a:xfrm>
                <a:custGeom>
                  <a:avLst/>
                  <a:gdLst/>
                  <a:ahLst/>
                  <a:rect l="l" t="t" r="r" b="b"/>
                  <a:pathLst>
                    <a:path w="408" h="453">
                      <a:moveTo>
                        <a:pt x="0" y="317"/>
                      </a:moveTo>
                      <a:lnTo>
                        <a:pt x="136" y="408"/>
                      </a:lnTo>
                      <a:lnTo>
                        <a:pt x="362" y="453"/>
                      </a:lnTo>
                      <a:lnTo>
                        <a:pt x="408" y="90"/>
                      </a:lnTo>
                      <a:lnTo>
                        <a:pt x="181" y="0"/>
                      </a:lnTo>
                      <a:lnTo>
                        <a:pt x="0" y="272"/>
                      </a:lnTo>
                      <a:lnTo>
                        <a:pt x="0" y="317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8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18065400">
                  <a:off x="7784280" y="3963240"/>
                  <a:ext cx="864720" cy="865440"/>
                </a:xfrm>
                <a:custGeom>
                  <a:avLst/>
                  <a:gdLst/>
                  <a:ahLst/>
                  <a:rect l="l" t="t" r="r" b="b"/>
                  <a:pathLst>
                    <a:path w="545" h="545">
                      <a:moveTo>
                        <a:pt x="0" y="227"/>
                      </a:moveTo>
                      <a:lnTo>
                        <a:pt x="227" y="545"/>
                      </a:lnTo>
                      <a:lnTo>
                        <a:pt x="454" y="363"/>
                      </a:lnTo>
                      <a:lnTo>
                        <a:pt x="545" y="0"/>
                      </a:lnTo>
                      <a:lnTo>
                        <a:pt x="137" y="0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8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18065400">
                  <a:off x="6803280" y="3559680"/>
                  <a:ext cx="792000" cy="863640"/>
                </a:xfrm>
                <a:custGeom>
                  <a:avLst/>
                  <a:gdLst/>
                  <a:ahLst/>
                  <a:rect l="l" t="t" r="r" b="b"/>
                  <a:pathLst>
                    <a:path w="499" h="544">
                      <a:moveTo>
                        <a:pt x="0" y="454"/>
                      </a:moveTo>
                      <a:lnTo>
                        <a:pt x="181" y="544"/>
                      </a:lnTo>
                      <a:lnTo>
                        <a:pt x="499" y="272"/>
                      </a:lnTo>
                      <a:lnTo>
                        <a:pt x="363" y="136"/>
                      </a:lnTo>
                      <a:lnTo>
                        <a:pt x="227" y="45"/>
                      </a:lnTo>
                      <a:lnTo>
                        <a:pt x="0" y="0"/>
                      </a:lnTo>
                      <a:lnTo>
                        <a:pt x="0" y="408"/>
                      </a:lnTo>
                      <a:lnTo>
                        <a:pt x="0" y="454"/>
                      </a:ln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8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8065400">
                  <a:off x="6467400" y="4534200"/>
                  <a:ext cx="791640" cy="863640"/>
                </a:xfrm>
                <a:custGeom>
                  <a:avLst/>
                  <a:gdLst/>
                  <a:ahLst/>
                  <a:rect l="l" t="t" r="r" b="b"/>
                  <a:pathLst>
                    <a:path w="499" h="544">
                      <a:moveTo>
                        <a:pt x="317" y="0"/>
                      </a:moveTo>
                      <a:lnTo>
                        <a:pt x="499" y="272"/>
                      </a:lnTo>
                      <a:lnTo>
                        <a:pt x="363" y="544"/>
                      </a:lnTo>
                      <a:lnTo>
                        <a:pt x="0" y="499"/>
                      </a:lnTo>
                      <a:lnTo>
                        <a:pt x="45" y="227"/>
                      </a:lnTo>
                      <a:lnTo>
                        <a:pt x="272" y="0"/>
                      </a:lnTo>
                      <a:lnTo>
                        <a:pt x="317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8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8065400">
                  <a:off x="7016040" y="4140720"/>
                  <a:ext cx="1007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 rot="18065400">
                <a:off x="6435720" y="3560400"/>
                <a:ext cx="2168280" cy="2165400"/>
              </a:xfrm>
              <a:prstGeom prst="donut">
                <a:avLst>
                  <a:gd name="adj" fmla="val 1105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7031160" y="446868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Example to illustrate the need for reporting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1773360"/>
            <a:ext cx="2663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b6500"/>
                </a:solidFill>
                <a:latin typeface="Verdana"/>
              </a:rPr>
              <a:t>Paris MoU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5"/>
          <a:stretch/>
        </p:blipFill>
        <p:spPr>
          <a:xfrm>
            <a:off x="755640" y="2830680"/>
            <a:ext cx="1123920" cy="1104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39640" y="2184480"/>
            <a:ext cx="165600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 Ship will call at M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64240" y="4033800"/>
            <a:ext cx="1998360" cy="1392120"/>
          </a:xfrm>
          <a:custGeom>
            <a:avLst/>
            <a:gdLst/>
            <a:ahLst/>
            <a:rect l="l" t="t" r="r" b="b"/>
            <a:pathLst>
              <a:path w="1225" h="877">
                <a:moveTo>
                  <a:pt x="0" y="0"/>
                </a:moveTo>
                <a:cubicBezTo>
                  <a:pt x="34" y="332"/>
                  <a:pt x="68" y="665"/>
                  <a:pt x="272" y="771"/>
                </a:cubicBezTo>
                <a:cubicBezTo>
                  <a:pt x="476" y="877"/>
                  <a:pt x="850" y="756"/>
                  <a:pt x="1225" y="635"/>
                </a:cubicBezTo>
              </a:path>
            </a:pathLst>
          </a:custGeom>
          <a:noFill/>
          <a:ln cap="rnd" w="57240">
            <a:solidFill>
              <a:srgbClr val="777777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32360" y="2220840"/>
            <a:ext cx="1368360" cy="2317680"/>
          </a:xfrm>
          <a:custGeom>
            <a:avLst/>
            <a:gdLst/>
            <a:ahLst/>
            <a:rect l="l" t="t" r="r" b="b"/>
            <a:pathLst>
              <a:path w="959" h="1527">
                <a:moveTo>
                  <a:pt x="0" y="1194"/>
                </a:moveTo>
                <a:cubicBezTo>
                  <a:pt x="90" y="1360"/>
                  <a:pt x="181" y="1527"/>
                  <a:pt x="317" y="1512"/>
                </a:cubicBezTo>
                <a:cubicBezTo>
                  <a:pt x="453" y="1497"/>
                  <a:pt x="710" y="1255"/>
                  <a:pt x="816" y="1104"/>
                </a:cubicBezTo>
                <a:cubicBezTo>
                  <a:pt x="922" y="953"/>
                  <a:pt x="959" y="756"/>
                  <a:pt x="952" y="605"/>
                </a:cubicBezTo>
                <a:cubicBezTo>
                  <a:pt x="945" y="454"/>
                  <a:pt x="839" y="294"/>
                  <a:pt x="771" y="196"/>
                </a:cubicBezTo>
                <a:cubicBezTo>
                  <a:pt x="703" y="98"/>
                  <a:pt x="627" y="0"/>
                  <a:pt x="544" y="15"/>
                </a:cubicBezTo>
                <a:cubicBezTo>
                  <a:pt x="461" y="30"/>
                  <a:pt x="366" y="158"/>
                  <a:pt x="272" y="287"/>
                </a:cubicBezTo>
              </a:path>
            </a:pathLst>
          </a:custGeom>
          <a:noFill/>
          <a:ln cap="rnd" w="57240">
            <a:solidFill>
              <a:srgbClr val="777777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21124200">
            <a:off x="2001960" y="3428640"/>
            <a:ext cx="2305080" cy="504720"/>
          </a:xfrm>
          <a:custGeom>
            <a:avLst/>
            <a:gdLst/>
            <a:ahLst/>
            <a:rect l="l" t="t" r="r" b="b"/>
            <a:pathLst>
              <a:path w="1452" h="317">
                <a:moveTo>
                  <a:pt x="0" y="0"/>
                </a:moveTo>
                <a:cubicBezTo>
                  <a:pt x="242" y="113"/>
                  <a:pt x="484" y="227"/>
                  <a:pt x="726" y="272"/>
                </a:cubicBezTo>
                <a:cubicBezTo>
                  <a:pt x="968" y="317"/>
                  <a:pt x="1210" y="294"/>
                  <a:pt x="1452" y="272"/>
                </a:cubicBezTo>
              </a:path>
            </a:pathLst>
          </a:custGeom>
          <a:noFill/>
          <a:ln cap="rnd" w="57240">
            <a:solidFill>
              <a:srgbClr val="80808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99280" y="2205000"/>
            <a:ext cx="216036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88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me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8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fferen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8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thin 15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4941720"/>
            <a:ext cx="208908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88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alling Port outside P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8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turn to Same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8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thin 15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1280" y="1700280"/>
            <a:ext cx="0" cy="4751280"/>
          </a:xfrm>
          <a:prstGeom prst="line">
            <a:avLst/>
          </a:prstGeom>
          <a:ln w="19080">
            <a:solidFill>
              <a:srgbClr val="cb65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48360" y="5445000"/>
            <a:ext cx="26636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88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ther PMoU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8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greed in adv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8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thin 15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8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27280" y="3933720"/>
            <a:ext cx="1955880" cy="2303640"/>
          </a:xfrm>
          <a:custGeom>
            <a:avLst/>
            <a:gdLst/>
            <a:ahLst/>
            <a:rect l="l" t="t" r="r" b="b"/>
            <a:pathLst>
              <a:path w="1232" h="1369">
                <a:moveTo>
                  <a:pt x="8" y="1179"/>
                </a:moveTo>
                <a:cubicBezTo>
                  <a:pt x="4" y="1266"/>
                  <a:pt x="0" y="1353"/>
                  <a:pt x="98" y="1361"/>
                </a:cubicBezTo>
                <a:cubicBezTo>
                  <a:pt x="196" y="1369"/>
                  <a:pt x="438" y="1338"/>
                  <a:pt x="597" y="1225"/>
                </a:cubicBezTo>
                <a:cubicBezTo>
                  <a:pt x="756" y="1112"/>
                  <a:pt x="945" y="884"/>
                  <a:pt x="1051" y="680"/>
                </a:cubicBezTo>
                <a:cubicBezTo>
                  <a:pt x="1157" y="476"/>
                  <a:pt x="1194" y="238"/>
                  <a:pt x="1232" y="0"/>
                </a:cubicBezTo>
              </a:path>
            </a:pathLst>
          </a:custGeom>
          <a:noFill/>
          <a:ln cap="rnd" w="57240">
            <a:solidFill>
              <a:srgbClr val="777777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425320" y="3860640"/>
            <a:ext cx="2002320" cy="1962000"/>
            <a:chOff x="2425320" y="3860640"/>
            <a:chExt cx="2002320" cy="1962000"/>
          </a:xfrm>
        </p:grpSpPr>
        <p:sp>
          <p:nvSpPr>
            <p:cNvPr id="205" name=""/>
            <p:cNvSpPr/>
            <p:nvPr/>
          </p:nvSpPr>
          <p:spPr>
            <a:xfrm>
              <a:off x="2700360" y="3860640"/>
              <a:ext cx="1727280" cy="1656000"/>
            </a:xfrm>
            <a:custGeom>
              <a:avLst/>
              <a:gdLst/>
              <a:ahLst/>
              <a:rect l="l" t="t" r="r" b="b"/>
              <a:pathLst>
                <a:path w="1270" h="1225">
                  <a:moveTo>
                    <a:pt x="1270" y="0"/>
                  </a:moveTo>
                  <a:cubicBezTo>
                    <a:pt x="1043" y="72"/>
                    <a:pt x="816" y="144"/>
                    <a:pt x="635" y="272"/>
                  </a:cubicBezTo>
                  <a:cubicBezTo>
                    <a:pt x="454" y="400"/>
                    <a:pt x="288" y="612"/>
                    <a:pt x="182" y="771"/>
                  </a:cubicBezTo>
                  <a:cubicBezTo>
                    <a:pt x="76" y="930"/>
                    <a:pt x="38" y="1077"/>
                    <a:pt x="0" y="1225"/>
                  </a:cubicBezTo>
                </a:path>
              </a:pathLst>
            </a:custGeom>
            <a:noFill/>
            <a:ln cap="rnd" w="57240">
              <a:solidFill>
                <a:srgbClr val="777777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320" y="5514840"/>
              <a:ext cx="462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777777"/>
                  </a:solidFill>
                  <a:latin typeface="Tahoma"/>
                </a:rPr>
                <a:t>(…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C09-2D85-4F73-AECB-FA5C58CD0710}" type="slidenum">
              <a:t>8</a:t>
            </a:fld>
          </a:p>
        </p:txBody>
      </p:sp>
    </p:spTree>
  </p:cSld>
  <p:transition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4716360" y="1700280"/>
            <a:ext cx="3888000" cy="2305080"/>
            <a:chOff x="4716360" y="1700280"/>
            <a:chExt cx="3888000" cy="2305080"/>
          </a:xfrm>
        </p:grpSpPr>
        <p:sp>
          <p:nvSpPr>
            <p:cNvPr id="208" name=""/>
            <p:cNvSpPr/>
            <p:nvPr/>
          </p:nvSpPr>
          <p:spPr>
            <a:xfrm>
              <a:off x="4732200" y="1733760"/>
              <a:ext cx="1928880" cy="2271600"/>
            </a:xfrm>
            <a:custGeom>
              <a:avLst/>
              <a:gdLst/>
              <a:ahLst/>
              <a:rect l="l" t="t" r="r" b="b"/>
              <a:pathLst>
                <a:path w="1215" h="1431">
                  <a:moveTo>
                    <a:pt x="21" y="429"/>
                  </a:moveTo>
                  <a:lnTo>
                    <a:pt x="999" y="1431"/>
                  </a:lnTo>
                  <a:lnTo>
                    <a:pt x="1215" y="1350"/>
                  </a:lnTo>
                  <a:lnTo>
                    <a:pt x="1215" y="0"/>
                  </a:lnTo>
                  <a:lnTo>
                    <a:pt x="972" y="3"/>
                  </a:lnTo>
                  <a:lnTo>
                    <a:pt x="750" y="30"/>
                  </a:lnTo>
                  <a:lnTo>
                    <a:pt x="501" y="84"/>
                  </a:lnTo>
                  <a:lnTo>
                    <a:pt x="309" y="153"/>
                  </a:lnTo>
                  <a:lnTo>
                    <a:pt x="141" y="246"/>
                  </a:lnTo>
                  <a:lnTo>
                    <a:pt x="48" y="348"/>
                  </a:lnTo>
                  <a:lnTo>
                    <a:pt x="0" y="411"/>
                  </a:ln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661080" y="1733760"/>
              <a:ext cx="1928880" cy="2271600"/>
            </a:xfrm>
            <a:custGeom>
              <a:avLst/>
              <a:gdLst/>
              <a:ahLst/>
              <a:rect l="l" t="t" r="r" b="b"/>
              <a:pathLst>
                <a:path w="1215" h="1431">
                  <a:moveTo>
                    <a:pt x="21" y="429"/>
                  </a:moveTo>
                  <a:lnTo>
                    <a:pt x="999" y="1431"/>
                  </a:lnTo>
                  <a:lnTo>
                    <a:pt x="1215" y="1350"/>
                  </a:lnTo>
                  <a:lnTo>
                    <a:pt x="1215" y="0"/>
                  </a:lnTo>
                  <a:lnTo>
                    <a:pt x="972" y="3"/>
                  </a:lnTo>
                  <a:lnTo>
                    <a:pt x="750" y="30"/>
                  </a:lnTo>
                  <a:lnTo>
                    <a:pt x="501" y="84"/>
                  </a:lnTo>
                  <a:lnTo>
                    <a:pt x="309" y="153"/>
                  </a:lnTo>
                  <a:lnTo>
                    <a:pt x="141" y="246"/>
                  </a:lnTo>
                  <a:lnTo>
                    <a:pt x="48" y="348"/>
                  </a:lnTo>
                  <a:lnTo>
                    <a:pt x="0" y="411"/>
                  </a:lnTo>
                </a:path>
              </a:pathLst>
            </a:custGeom>
            <a:solidFill>
              <a:srgbClr val="ffd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16360" y="1700280"/>
              <a:ext cx="3888000" cy="1440000"/>
            </a:xfrm>
            <a:prstGeom prst="blockArc">
              <a:avLst>
                <a:gd name="adj1" fmla="val 10469206"/>
                <a:gd name="adj2" fmla="val 330794"/>
                <a:gd name="adj3" fmla="val 23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24000" y="3274920"/>
            <a:ext cx="4429080" cy="2568600"/>
            <a:chOff x="324000" y="3274920"/>
            <a:chExt cx="4429080" cy="2568600"/>
          </a:xfrm>
        </p:grpSpPr>
        <p:sp>
          <p:nvSpPr>
            <p:cNvPr id="212" name=""/>
            <p:cNvSpPr/>
            <p:nvPr/>
          </p:nvSpPr>
          <p:spPr>
            <a:xfrm>
              <a:off x="365040" y="3449160"/>
              <a:ext cx="1824120" cy="1382400"/>
            </a:xfrm>
            <a:custGeom>
              <a:avLst/>
              <a:gdLst/>
              <a:ahLst/>
              <a:rect l="l" t="t" r="r" b="b"/>
              <a:pathLst>
                <a:path w="1149" h="879">
                  <a:moveTo>
                    <a:pt x="48" y="879"/>
                  </a:moveTo>
                  <a:lnTo>
                    <a:pt x="1083" y="747"/>
                  </a:lnTo>
                  <a:lnTo>
                    <a:pt x="1149" y="453"/>
                  </a:lnTo>
                  <a:lnTo>
                    <a:pt x="726" y="0"/>
                  </a:lnTo>
                  <a:lnTo>
                    <a:pt x="513" y="87"/>
                  </a:lnTo>
                  <a:lnTo>
                    <a:pt x="339" y="192"/>
                  </a:lnTo>
                  <a:lnTo>
                    <a:pt x="177" y="333"/>
                  </a:lnTo>
                  <a:lnTo>
                    <a:pt x="60" y="462"/>
                  </a:lnTo>
                  <a:lnTo>
                    <a:pt x="9" y="618"/>
                  </a:lnTo>
                  <a:lnTo>
                    <a:pt x="0" y="792"/>
                  </a:lnTo>
                  <a:lnTo>
                    <a:pt x="48" y="8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857680" y="3449160"/>
              <a:ext cx="1823760" cy="1382400"/>
            </a:xfrm>
            <a:custGeom>
              <a:avLst/>
              <a:gdLst/>
              <a:ahLst/>
              <a:rect l="l" t="t" r="r" b="b"/>
              <a:pathLst>
                <a:path w="1149" h="879">
                  <a:moveTo>
                    <a:pt x="48" y="879"/>
                  </a:moveTo>
                  <a:lnTo>
                    <a:pt x="1083" y="747"/>
                  </a:lnTo>
                  <a:lnTo>
                    <a:pt x="1149" y="453"/>
                  </a:lnTo>
                  <a:lnTo>
                    <a:pt x="726" y="0"/>
                  </a:lnTo>
                  <a:lnTo>
                    <a:pt x="513" y="87"/>
                  </a:lnTo>
                  <a:lnTo>
                    <a:pt x="339" y="192"/>
                  </a:lnTo>
                  <a:lnTo>
                    <a:pt x="177" y="333"/>
                  </a:lnTo>
                  <a:lnTo>
                    <a:pt x="60" y="462"/>
                  </a:lnTo>
                  <a:lnTo>
                    <a:pt x="9" y="618"/>
                  </a:lnTo>
                  <a:lnTo>
                    <a:pt x="0" y="792"/>
                  </a:lnTo>
                  <a:lnTo>
                    <a:pt x="48" y="8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000" y="3274920"/>
              <a:ext cx="4429080" cy="2568600"/>
            </a:xfrm>
            <a:prstGeom prst="blockArc">
              <a:avLst>
                <a:gd name="adj1" fmla="val 9977310"/>
                <a:gd name="adj2" fmla="val 822690"/>
                <a:gd name="adj3" fmla="val 28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77800" y="1700280"/>
            <a:ext cx="3888000" cy="2305080"/>
            <a:chOff x="577800" y="1700280"/>
            <a:chExt cx="3888000" cy="2305080"/>
          </a:xfrm>
        </p:grpSpPr>
        <p:sp>
          <p:nvSpPr>
            <p:cNvPr id="216" name=""/>
            <p:cNvSpPr/>
            <p:nvPr/>
          </p:nvSpPr>
          <p:spPr>
            <a:xfrm>
              <a:off x="593640" y="1733760"/>
              <a:ext cx="1928880" cy="2271600"/>
            </a:xfrm>
            <a:custGeom>
              <a:avLst/>
              <a:gdLst/>
              <a:ahLst/>
              <a:rect l="l" t="t" r="r" b="b"/>
              <a:pathLst>
                <a:path w="1215" h="1431">
                  <a:moveTo>
                    <a:pt x="21" y="429"/>
                  </a:moveTo>
                  <a:lnTo>
                    <a:pt x="999" y="1431"/>
                  </a:lnTo>
                  <a:lnTo>
                    <a:pt x="1215" y="1350"/>
                  </a:lnTo>
                  <a:lnTo>
                    <a:pt x="1215" y="0"/>
                  </a:lnTo>
                  <a:lnTo>
                    <a:pt x="972" y="3"/>
                  </a:lnTo>
                  <a:lnTo>
                    <a:pt x="750" y="30"/>
                  </a:lnTo>
                  <a:lnTo>
                    <a:pt x="501" y="84"/>
                  </a:lnTo>
                  <a:lnTo>
                    <a:pt x="309" y="153"/>
                  </a:lnTo>
                  <a:lnTo>
                    <a:pt x="141" y="246"/>
                  </a:lnTo>
                  <a:lnTo>
                    <a:pt x="48" y="348"/>
                  </a:lnTo>
                  <a:lnTo>
                    <a:pt x="0" y="411"/>
                  </a:ln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522520" y="1733760"/>
              <a:ext cx="1928880" cy="2271600"/>
            </a:xfrm>
            <a:custGeom>
              <a:avLst/>
              <a:gdLst/>
              <a:ahLst/>
              <a:rect l="l" t="t" r="r" b="b"/>
              <a:pathLst>
                <a:path w="1215" h="1431">
                  <a:moveTo>
                    <a:pt x="21" y="429"/>
                  </a:moveTo>
                  <a:lnTo>
                    <a:pt x="999" y="1431"/>
                  </a:lnTo>
                  <a:lnTo>
                    <a:pt x="1215" y="1350"/>
                  </a:lnTo>
                  <a:lnTo>
                    <a:pt x="1215" y="0"/>
                  </a:lnTo>
                  <a:lnTo>
                    <a:pt x="972" y="3"/>
                  </a:lnTo>
                  <a:lnTo>
                    <a:pt x="750" y="30"/>
                  </a:lnTo>
                  <a:lnTo>
                    <a:pt x="501" y="84"/>
                  </a:lnTo>
                  <a:lnTo>
                    <a:pt x="309" y="153"/>
                  </a:lnTo>
                  <a:lnTo>
                    <a:pt x="141" y="246"/>
                  </a:lnTo>
                  <a:lnTo>
                    <a:pt x="48" y="348"/>
                  </a:lnTo>
                  <a:lnTo>
                    <a:pt x="0" y="411"/>
                  </a:lnTo>
                </a:path>
              </a:pathLst>
            </a:custGeom>
            <a:solidFill>
              <a:srgbClr val="ffd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7800" y="1700280"/>
              <a:ext cx="3888000" cy="1440000"/>
            </a:xfrm>
            <a:prstGeom prst="blockArc">
              <a:avLst>
                <a:gd name="adj1" fmla="val 10469206"/>
                <a:gd name="adj2" fmla="val 330794"/>
                <a:gd name="adj3" fmla="val 23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981000"/>
            <a:ext cx="7767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78c7"/>
                </a:solidFill>
                <a:latin typeface="Verdana"/>
              </a:rPr>
              <a:t>With SIReNaC                     With THETIS</a:t>
            </a:r>
            <a:endParaRPr b="1" lang="en-US" sz="2200" spc="-1" strike="noStrike">
              <a:solidFill>
                <a:srgbClr val="0078c7"/>
              </a:solidFill>
              <a:latin typeface="Verdan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05480" y="1986120"/>
            <a:ext cx="1307520" cy="806400"/>
            <a:chOff x="1005480" y="1986120"/>
            <a:chExt cx="1307520" cy="80640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1181160" y="2192400"/>
              <a:ext cx="6159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>
              <a:off x="1592280" y="2036880"/>
              <a:ext cx="566640" cy="5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4"/>
            <a:stretch/>
          </p:blipFill>
          <p:spPr>
            <a:xfrm>
              <a:off x="1849320" y="2345040"/>
              <a:ext cx="4636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005480" y="1986120"/>
              <a:ext cx="5752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OR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778120" y="2060640"/>
            <a:ext cx="1111320" cy="718560"/>
            <a:chOff x="2778120" y="2060640"/>
            <a:chExt cx="1111320" cy="718560"/>
          </a:xfrm>
        </p:grpSpPr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3219480" y="2060640"/>
              <a:ext cx="45720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6"/>
            <a:stretch/>
          </p:blipFill>
          <p:spPr>
            <a:xfrm flipH="1">
              <a:off x="2808360" y="2060640"/>
              <a:ext cx="4636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778120" y="2523960"/>
              <a:ext cx="65916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G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7"/>
            <a:stretch/>
          </p:blipFill>
          <p:spPr>
            <a:xfrm>
              <a:off x="3425760" y="2317680"/>
              <a:ext cx="463680" cy="4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580320" y="3843360"/>
            <a:ext cx="1173960" cy="951120"/>
            <a:chOff x="580320" y="3843360"/>
            <a:chExt cx="1173960" cy="951120"/>
          </a:xfrm>
        </p:grpSpPr>
        <p:grpSp>
          <p:nvGrpSpPr>
            <p:cNvPr id="231" name=""/>
            <p:cNvGrpSpPr/>
            <p:nvPr/>
          </p:nvGrpSpPr>
          <p:grpSpPr>
            <a:xfrm>
              <a:off x="1017000" y="3843360"/>
              <a:ext cx="737280" cy="736200"/>
              <a:chOff x="1017000" y="3843360"/>
              <a:chExt cx="737280" cy="736200"/>
            </a:xfrm>
          </p:grpSpPr>
          <p:pic>
            <p:nvPicPr>
              <p:cNvPr id="23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017000" y="3843360"/>
                <a:ext cx="737280" cy="73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 txBox="1"/>
              <p:nvPr/>
            </p:nvSpPr>
            <p:spPr>
              <a:xfrm rot="21154200">
                <a:off x="1178280" y="3961800"/>
                <a:ext cx="464760" cy="205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87338"/>
                  </a:avLst>
                </a:prstTxWarp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IReNaC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80320" y="4188240"/>
              <a:ext cx="624240" cy="606240"/>
              <a:chOff x="580320" y="4188240"/>
              <a:chExt cx="624240" cy="606240"/>
            </a:xfrm>
          </p:grpSpPr>
          <p:pic>
            <p:nvPicPr>
              <p:cNvPr id="235" name="" descr="Database 128x128 px"/>
              <p:cNvPicPr/>
              <p:nvPr/>
            </p:nvPicPr>
            <p:blipFill>
              <a:blip r:embed="rId9"/>
              <a:stretch/>
            </p:blipFill>
            <p:spPr>
              <a:xfrm>
                <a:off x="706320" y="4188240"/>
                <a:ext cx="369000" cy="36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580320" y="4579920"/>
                <a:ext cx="624240" cy="2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ahoma"/>
                  </a:rPr>
                  <a:t>SHIP D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37" name="" descr=""/>
          <p:cNvPicPr/>
          <p:nvPr/>
        </p:nvPicPr>
        <p:blipFill>
          <a:blip r:embed="rId10"/>
          <a:stretch/>
        </p:blipFill>
        <p:spPr>
          <a:xfrm>
            <a:off x="2665440" y="2921040"/>
            <a:ext cx="649440" cy="64908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1800360" y="2994120"/>
            <a:ext cx="594720" cy="528120"/>
            <a:chOff x="1800360" y="2994120"/>
            <a:chExt cx="594720" cy="528120"/>
          </a:xfrm>
        </p:grpSpPr>
        <p:pic>
          <p:nvPicPr>
            <p:cNvPr id="239" name="" descr=""/>
            <p:cNvPicPr/>
            <p:nvPr/>
          </p:nvPicPr>
          <p:blipFill>
            <a:blip r:embed="rId11"/>
            <a:stretch/>
          </p:blipFill>
          <p:spPr>
            <a:xfrm>
              <a:off x="1976400" y="2994120"/>
              <a:ext cx="41868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2"/>
            <a:stretch/>
          </p:blipFill>
          <p:spPr>
            <a:xfrm>
              <a:off x="1888920" y="3081240"/>
              <a:ext cx="4197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3"/>
            <a:stretch/>
          </p:blipFill>
          <p:spPr>
            <a:xfrm>
              <a:off x="1800360" y="3169080"/>
              <a:ext cx="411480" cy="35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"/>
          <p:cNvGrpSpPr/>
          <p:nvPr/>
        </p:nvGrpSpPr>
        <p:grpSpPr>
          <a:xfrm>
            <a:off x="3151080" y="3862440"/>
            <a:ext cx="1265760" cy="822600"/>
            <a:chOff x="3151080" y="3862440"/>
            <a:chExt cx="1265760" cy="822600"/>
          </a:xfrm>
        </p:grpSpPr>
        <p:pic>
          <p:nvPicPr>
            <p:cNvPr id="243" name="" descr=""/>
            <p:cNvPicPr/>
            <p:nvPr/>
          </p:nvPicPr>
          <p:blipFill>
            <a:blip r:embed="rId14"/>
            <a:stretch/>
          </p:blipFill>
          <p:spPr>
            <a:xfrm>
              <a:off x="3324240" y="3862440"/>
              <a:ext cx="10080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151080" y="4470480"/>
              <a:ext cx="1265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ATIONAL SYSTE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981080" y="3860640"/>
            <a:ext cx="1079640" cy="10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5"/>
          <a:stretch/>
        </p:blipFill>
        <p:spPr>
          <a:xfrm>
            <a:off x="2295360" y="4133880"/>
            <a:ext cx="4762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4040" y="1986120"/>
            <a:ext cx="1307520" cy="806400"/>
            <a:chOff x="5144040" y="1986120"/>
            <a:chExt cx="1307520" cy="806400"/>
          </a:xfrm>
        </p:grpSpPr>
        <p:pic>
          <p:nvPicPr>
            <p:cNvPr id="248" name="" descr=""/>
            <p:cNvPicPr/>
            <p:nvPr/>
          </p:nvPicPr>
          <p:blipFill>
            <a:blip r:embed="rId16"/>
            <a:stretch/>
          </p:blipFill>
          <p:spPr>
            <a:xfrm>
              <a:off x="5319720" y="2192400"/>
              <a:ext cx="6159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17"/>
            <a:stretch/>
          </p:blipFill>
          <p:spPr>
            <a:xfrm>
              <a:off x="5730840" y="2036880"/>
              <a:ext cx="566640" cy="5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18"/>
            <a:stretch/>
          </p:blipFill>
          <p:spPr>
            <a:xfrm>
              <a:off x="5987880" y="2345040"/>
              <a:ext cx="4636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144040" y="1986120"/>
              <a:ext cx="5752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OR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916680" y="2060640"/>
            <a:ext cx="1111320" cy="718560"/>
            <a:chOff x="6916680" y="2060640"/>
            <a:chExt cx="1111320" cy="718560"/>
          </a:xfrm>
        </p:grpSpPr>
        <p:pic>
          <p:nvPicPr>
            <p:cNvPr id="253" name="" descr=""/>
            <p:cNvPicPr/>
            <p:nvPr/>
          </p:nvPicPr>
          <p:blipFill>
            <a:blip r:embed="rId19"/>
            <a:stretch/>
          </p:blipFill>
          <p:spPr>
            <a:xfrm>
              <a:off x="7358040" y="2060640"/>
              <a:ext cx="45720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20"/>
            <a:stretch/>
          </p:blipFill>
          <p:spPr>
            <a:xfrm flipH="1">
              <a:off x="6946920" y="2060640"/>
              <a:ext cx="4636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916680" y="2523960"/>
              <a:ext cx="65916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G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21"/>
            <a:stretch/>
          </p:blipFill>
          <p:spPr>
            <a:xfrm>
              <a:off x="7564320" y="2317680"/>
              <a:ext cx="463680" cy="46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/>
          <p:cNvSpPr/>
          <p:nvPr/>
        </p:nvSpPr>
        <p:spPr>
          <a:xfrm>
            <a:off x="5796000" y="2863800"/>
            <a:ext cx="1727280" cy="1082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27960" y="4681440"/>
            <a:ext cx="810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TARG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65800" y="3429000"/>
            <a:ext cx="2590920" cy="14382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66280" y="4375080"/>
            <a:ext cx="8330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TARG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648400" y="3767040"/>
            <a:ext cx="1886040" cy="822600"/>
            <a:chOff x="5648400" y="3767040"/>
            <a:chExt cx="1886040" cy="822600"/>
          </a:xfrm>
        </p:grpSpPr>
        <p:pic>
          <p:nvPicPr>
            <p:cNvPr id="262" name="" descr="Database 128x128 px"/>
            <p:cNvPicPr/>
            <p:nvPr/>
          </p:nvPicPr>
          <p:blipFill>
            <a:blip r:embed="rId22"/>
            <a:stretch/>
          </p:blipFill>
          <p:spPr>
            <a:xfrm>
              <a:off x="5775480" y="3989520"/>
              <a:ext cx="36972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648400" y="4375080"/>
              <a:ext cx="6242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SHIP D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" descr="Process 128x128 px"/>
            <p:cNvPicPr/>
            <p:nvPr/>
          </p:nvPicPr>
          <p:blipFill>
            <a:blip r:embed="rId23"/>
            <a:stretch/>
          </p:blipFill>
          <p:spPr>
            <a:xfrm>
              <a:off x="7102440" y="39290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5" name=""/>
            <p:cNvGrpSpPr/>
            <p:nvPr/>
          </p:nvGrpSpPr>
          <p:grpSpPr>
            <a:xfrm>
              <a:off x="6229440" y="3767040"/>
              <a:ext cx="736560" cy="738360"/>
              <a:chOff x="6229440" y="3767040"/>
              <a:chExt cx="736560" cy="738360"/>
            </a:xfrm>
          </p:grpSpPr>
          <p:pic>
            <p:nvPicPr>
              <p:cNvPr id="266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6229440" y="3767040"/>
                <a:ext cx="73656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 txBox="1"/>
              <p:nvPr/>
            </p:nvSpPr>
            <p:spPr>
              <a:xfrm rot="21171000">
                <a:off x="6391440" y="3885480"/>
                <a:ext cx="463680" cy="20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87338"/>
                  </a:avLst>
                </a:prstTxWarp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TIS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6056280" y="2990880"/>
            <a:ext cx="1209600" cy="693720"/>
            <a:chOff x="6056280" y="2990880"/>
            <a:chExt cx="1209600" cy="693720"/>
          </a:xfrm>
        </p:grpSpPr>
        <p:sp>
          <p:nvSpPr>
            <p:cNvPr id="269" name=""/>
            <p:cNvSpPr/>
            <p:nvPr/>
          </p:nvSpPr>
          <p:spPr>
            <a:xfrm>
              <a:off x="6056280" y="3024360"/>
              <a:ext cx="1209600" cy="66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5"/>
            <a:stretch/>
          </p:blipFill>
          <p:spPr>
            <a:xfrm>
              <a:off x="6229440" y="2990880"/>
              <a:ext cx="860400" cy="60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1" name=""/>
          <p:cNvGrpSpPr/>
          <p:nvPr/>
        </p:nvGrpSpPr>
        <p:grpSpPr>
          <a:xfrm>
            <a:off x="2052360" y="5499000"/>
            <a:ext cx="791640" cy="666360"/>
            <a:chOff x="2052360" y="5499000"/>
            <a:chExt cx="791640" cy="666360"/>
          </a:xfrm>
        </p:grpSpPr>
        <p:pic>
          <p:nvPicPr>
            <p:cNvPr id="272" name="" descr=""/>
            <p:cNvPicPr/>
            <p:nvPr/>
          </p:nvPicPr>
          <p:blipFill>
            <a:blip r:embed="rId26"/>
            <a:stretch/>
          </p:blipFill>
          <p:spPr>
            <a:xfrm flipH="1">
              <a:off x="2266560" y="5499000"/>
              <a:ext cx="50292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27"/>
            <a:stretch/>
          </p:blipFill>
          <p:spPr>
            <a:xfrm flipH="1">
              <a:off x="2052360" y="5644440"/>
              <a:ext cx="50292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8"/>
            <a:stretch/>
          </p:blipFill>
          <p:spPr>
            <a:xfrm flipH="1">
              <a:off x="2370600" y="5691960"/>
              <a:ext cx="473400" cy="47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6264000" y="5805360"/>
            <a:ext cx="791640" cy="666360"/>
            <a:chOff x="6264000" y="5805360"/>
            <a:chExt cx="791640" cy="666360"/>
          </a:xfrm>
        </p:grpSpPr>
        <p:pic>
          <p:nvPicPr>
            <p:cNvPr id="276" name="" descr=""/>
            <p:cNvPicPr/>
            <p:nvPr/>
          </p:nvPicPr>
          <p:blipFill>
            <a:blip r:embed="rId29"/>
            <a:stretch/>
          </p:blipFill>
          <p:spPr>
            <a:xfrm flipH="1">
              <a:off x="6478200" y="5805360"/>
              <a:ext cx="50292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30"/>
            <a:stretch/>
          </p:blipFill>
          <p:spPr>
            <a:xfrm flipH="1">
              <a:off x="6264000" y="5950800"/>
              <a:ext cx="50292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31"/>
            <a:stretch/>
          </p:blipFill>
          <p:spPr>
            <a:xfrm flipH="1">
              <a:off x="6582240" y="5998320"/>
              <a:ext cx="473400" cy="47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"/>
          <p:cNvSpPr/>
          <p:nvPr/>
        </p:nvSpPr>
        <p:spPr>
          <a:xfrm>
            <a:off x="6121440" y="4579920"/>
            <a:ext cx="1079640" cy="10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2"/>
          <a:stretch/>
        </p:blipFill>
        <p:spPr>
          <a:xfrm>
            <a:off x="6423120" y="4724280"/>
            <a:ext cx="4762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6480000" y="5324400"/>
            <a:ext cx="1151280" cy="376200"/>
            <a:chOff x="6480000" y="5324400"/>
            <a:chExt cx="1151280" cy="376200"/>
          </a:xfrm>
        </p:grpSpPr>
        <p:sp>
          <p:nvSpPr>
            <p:cNvPr id="282" name=""/>
            <p:cNvSpPr/>
            <p:nvPr/>
          </p:nvSpPr>
          <p:spPr>
            <a:xfrm>
              <a:off x="6744960" y="5367240"/>
              <a:ext cx="886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Tahoma"/>
                </a:rPr>
                <a:t>ALLO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0000" y="5324400"/>
              <a:ext cx="360360" cy="376200"/>
            </a:xfrm>
            <a:prstGeom prst="downArrow">
              <a:avLst>
                <a:gd name="adj1" fmla="val 50000"/>
                <a:gd name="adj2" fmla="val 26099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346480" y="5016600"/>
            <a:ext cx="1151280" cy="376200"/>
            <a:chOff x="2346480" y="5016600"/>
            <a:chExt cx="1151280" cy="376200"/>
          </a:xfrm>
        </p:grpSpPr>
        <p:sp>
          <p:nvSpPr>
            <p:cNvPr id="285" name=""/>
            <p:cNvSpPr/>
            <p:nvPr/>
          </p:nvSpPr>
          <p:spPr>
            <a:xfrm>
              <a:off x="2611440" y="5059440"/>
              <a:ext cx="886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Tahoma"/>
                </a:rPr>
                <a:t>ALLO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46480" y="5016600"/>
              <a:ext cx="360360" cy="376200"/>
            </a:xfrm>
            <a:prstGeom prst="downArrow">
              <a:avLst>
                <a:gd name="adj1" fmla="val 50000"/>
                <a:gd name="adj2" fmla="val 26099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D32-A17C-449A-A117-9D09162143B0}" type="slidenum">
              <a:t>9</a:t>
            </a:fld>
          </a:p>
        </p:txBody>
      </p:sp>
    </p:spTree>
  </p:cSld>
  <p:transition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guel Madeira</dc:creator>
  <dc:description/>
  <dc:language>en-US</dc:language>
  <cp:lastModifiedBy>ROHLING</cp:lastModifiedBy>
  <dcterms:modified xsi:type="dcterms:W3CDTF">2009-06-11T06:24:23Z</dcterms:modified>
  <cp:revision>303</cp:revision>
  <dc:subject/>
  <dc:title>Thetis Presentation</dc:title>
</cp:coreProperties>
</file>